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56.png" ContentType="image/png"/>
  <Override PartName="/ppt/media/image40.jpeg" ContentType="image/jpeg"/>
  <Override PartName="/ppt/media/image55.png" ContentType="image/png"/>
  <Override PartName="/ppt/media/image20.jpeg" ContentType="image/jpeg"/>
  <Override PartName="/ppt/media/image53.png" ContentType="image/png"/>
  <Override PartName="/ppt/media/image10.wmf" ContentType="image/x-wmf"/>
  <Override PartName="/ppt/media/image51.png" ContentType="image/png"/>
  <Override PartName="/ppt/media/image4.jpeg" ContentType="image/jpeg"/>
  <Override PartName="/ppt/media/image50.png" ContentType="image/png"/>
  <Override PartName="/ppt/media/image46.png" ContentType="image/png"/>
  <Override PartName="/ppt/media/image45.png" ContentType="image/png"/>
  <Override PartName="/ppt/media/image44.jpeg" ContentType="image/jpeg"/>
  <Override PartName="/ppt/media/image43.jpeg" ContentType="image/jpeg"/>
  <Override PartName="/ppt/media/image54.png" ContentType="image/png"/>
  <Override PartName="/ppt/media/image41.jpeg" ContentType="image/jpeg"/>
  <Override PartName="/ppt/media/image66.png" ContentType="image/png"/>
  <Override PartName="/ppt/media/image38.jpeg" ContentType="image/jpeg"/>
  <Override PartName="/ppt/media/image72.png" ContentType="image/png"/>
  <Override PartName="/ppt/media/image37.jpeg" ContentType="image/jpeg"/>
  <Override PartName="/ppt/media/image57.png" ContentType="image/png"/>
  <Override PartName="/ppt/media/image36.jpeg" ContentType="image/jpeg"/>
  <Override PartName="/ppt/media/image47.png" ContentType="image/png"/>
  <Override PartName="/ppt/media/image35.jpeg" ContentType="image/jpeg"/>
  <Override PartName="/ppt/media/image33.jpeg" ContentType="image/jpeg"/>
  <Override PartName="/ppt/media/image30.jpeg" ContentType="image/jpeg"/>
  <Override PartName="/ppt/media/image83.wmf" ContentType="image/x-wmf"/>
  <Override PartName="/ppt/media/image24.jpeg" ContentType="image/jpeg"/>
  <Override PartName="/ppt/media/image59.png" ContentType="image/png"/>
  <Override PartName="/ppt/media/image60.png" ContentType="image/png"/>
  <Override PartName="/ppt/media/image28.jpeg" ContentType="image/jpeg"/>
  <Override PartName="/ppt/media/image62.png" ContentType="image/png"/>
  <Override PartName="/ppt/media/image6.jpeg" ContentType="image/jpeg"/>
  <Override PartName="/ppt/media/image71.png" ContentType="image/png"/>
  <Override PartName="/ppt/media/image12.png" ContentType="image/png"/>
  <Override PartName="/ppt/media/image49.png" ContentType="image/png"/>
  <Override PartName="/ppt/media/image32.jpeg" ContentType="image/jpeg"/>
  <Override PartName="/ppt/media/image26.jpeg" ContentType="image/jpeg"/>
  <Override PartName="/ppt/media/image79.png" ContentType="image/png"/>
  <Override PartName="/ppt/media/image21.jpeg" ContentType="image/jpeg"/>
  <Override PartName="/ppt/media/image65.png" ContentType="image/png"/>
  <Override PartName="/ppt/media/image29.jpeg" ContentType="image/jpeg"/>
  <Override PartName="/ppt/media/image61.png" ContentType="image/png"/>
  <Override PartName="/ppt/media/image86.png" ContentType="image/png"/>
  <Override PartName="/ppt/media/image31.jpeg" ContentType="image/jpeg"/>
  <Override PartName="/ppt/media/image74.png" ContentType="image/png"/>
  <Override PartName="/ppt/media/image16.png" ContentType="image/png"/>
  <Override PartName="/ppt/media/image81.png" ContentType="image/png"/>
  <Override PartName="/ppt/media/image67.png" ContentType="image/png"/>
  <Override PartName="/ppt/media/image78.png" ContentType="image/png"/>
  <Override PartName="/ppt/media/image69.jpeg" ContentType="image/jpeg"/>
  <Override PartName="/ppt/media/image9.wmf" ContentType="image/x-wmf"/>
  <Override PartName="/ppt/media/image77.png" ContentType="image/png"/>
  <Override PartName="/ppt/media/image76.png" ContentType="image/png"/>
  <Override PartName="/ppt/media/image64.png" ContentType="image/png"/>
  <Override PartName="/ppt/media/image73.png" ContentType="image/png"/>
  <Override PartName="/ppt/media/image70.png" ContentType="image/png"/>
  <Override PartName="/ppt/media/image68.png" ContentType="image/png"/>
  <Override PartName="/ppt/media/image63.png" ContentType="image/png"/>
  <Override PartName="/ppt/media/image17.png" ContentType="image/png"/>
  <Override PartName="/ppt/media/image39.jpeg" ContentType="image/jpeg"/>
  <Override PartName="/ppt/media/image80.png" ContentType="image/png"/>
  <Override PartName="/ppt/media/image15.png" ContentType="image/png"/>
  <Override PartName="/ppt/media/image3.png" ContentType="image/png"/>
  <Override PartName="/ppt/media/image25.jpeg" ContentType="image/jpeg"/>
  <Override PartName="/ppt/media/image19.jpeg" ContentType="image/jpeg"/>
  <Override PartName="/ppt/media/image18.png" ContentType="image/png"/>
  <Override PartName="/ppt/media/image42.jpeg" ContentType="image/jpeg"/>
  <Override PartName="/ppt/media/image11.png" ContentType="image/png"/>
  <Override PartName="/ppt/media/image48.png" ContentType="image/png"/>
  <Override PartName="/ppt/media/image52.png" ContentType="image/png"/>
  <Override PartName="/ppt/media/image82.wmf" ContentType="image/x-wmf"/>
  <Override PartName="/ppt/media/image5.wmf" ContentType="image/x-wmf"/>
  <Override PartName="/ppt/media/image27.jpeg" ContentType="image/jpeg"/>
  <Override PartName="/ppt/media/image23.jpeg" ContentType="image/jpeg"/>
  <Override PartName="/ppt/media/image8.png" ContentType="image/png"/>
  <Override PartName="/ppt/media/image85.png" ContentType="image/png"/>
  <Override PartName="/ppt/media/image1.png" ContentType="image/png"/>
  <Override PartName="/ppt/media/image13.png" ContentType="image/png"/>
  <Override PartName="/ppt/media/image22.jpeg" ContentType="image/jpeg"/>
  <Override PartName="/ppt/media/image75.png" ContentType="image/png"/>
  <Override PartName="/ppt/media/image84.png" ContentType="image/png"/>
  <Override PartName="/ppt/media/image7.png" ContentType="image/png"/>
  <Override PartName="/ppt/media/image34.jpeg" ContentType="image/jpeg"/>
  <Override PartName="/ppt/media/image2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7066-6824-4AC2-AAA9-83C5357C8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nphacts is an imi project with an mou with ehr4c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849A-F0D5-4FFC-A997-12FCC8B83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specting Data Provid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asy to expose data to openphac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se RDF with dataset descrip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yntactic interoperability fir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commendations over mandates (we recommend certain ontologies but do not require the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dapt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appings are cruc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appings between terminologies and data and between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E0E1-3F68-4241-A596-620C81653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ed triples 479,440,49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orted triples are larger because of additional data from wikipathways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9 GB on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~12 GB 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GB RAM / billion tri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C925-6DEA-4B0F-BACC-27938082A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0650-3E99-4E9C-AA40-FE806F1AA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complex reasoning has not been essential – basic semweb reasoning goes along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59E6-4157-4D75-9E92-BF6D3E339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issue here is that the same compound in two different databases might have subtle differences (salt forms, stereo chemistry etc). Integration systems often apply a “one size fits all rule” which aligns some, but not all of the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8404-A37B-4E6C-96F9-065DB08181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f the shelf when pos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ked data api = http://code.google.com/p/linked-data-api/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ran a competitive call for te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8CCE-3117-4CB9-9AD7-C25256635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A1F2-559F-4225-A90F-520ABB97EB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Big servers: 330 gigabytes of ram, flash drives – pro triple st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ecommendation is easier but requires more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est, other formats – tsv, j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1471-1500-4C5D-9D8C-046FB24C2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Very keen on further collabo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5489-DFF1-4FC6-8868-C0EDA3BAD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1) A platform for integrated pharmacology data based on open stand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2) Easy to build multiple drug discovery applicat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3) Deals with both public domain and commercial data 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4) Example appli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46D6-8827-45AC-8734-397C3773B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prioritized business questions by phar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Top priority business question – 5 people 6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0699-8412-4F00-8060-86557014D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8BBD3-F04A-46EA-B47A-7A97C617D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95328-C924-42F2-AB60-08750375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5FB94-CDAB-4DF4-986D-5DAE47F12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A583D-617A-459F-8F8D-6A9BA007F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3188-AD14-4091-A536-7647FFE65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37E9-C1E8-4652-8716-E20E6FB1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27A2-7592-4DBE-AED9-36712CB8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0118-DF13-45E9-87F0-EFC042FC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85B97-D6BE-4AFD-809D-355D58F0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CD806-46BC-4A1B-A15C-74F2B0CD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27F1-D94E-4D9E-A223-A1811C70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CA0E1-7B8B-44BE-816E-6DD61E02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5E70-BA36-482C-BAE9-32212017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4EFE-00BD-4A41-A08E-3129A750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57EC-B6A0-4732-A7F7-7F1999B4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28D4-2064-4C5A-8044-71FF7DAA8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089C-160F-43FE-BDB4-3B4CC6E18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D3314-41AC-4F55-A24E-83E9310A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62E75-9F7E-4A4B-B267-3EBAC6D4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31640-7A87-4C3F-BE10-C4CD0A32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D336D-C6F5-4022-AC73-4D80880A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3B0BF-0CBE-43AF-B55A-00009B4C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1E3FA-63E1-4006-BE5F-F3464B3B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9EF8B-C77A-4D7A-81D9-D3C444B9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1493-2489-4E66-B979-7D7FD3ECA4CF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2"/>
          <p:cNvSpPr/>
          <p:nvPr/>
        </p:nvSpPr>
        <p:spPr>
          <a:xfrm flipH="1">
            <a:off x="685800" y="6172200"/>
            <a:ext cx="7772400" cy="0"/>
          </a:xfrm>
          <a:prstGeom prst="line">
            <a:avLst/>
          </a:prstGeom>
          <a:ln w="28440">
            <a:solidFill>
              <a:srgbClr val="66bc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rcRect l="9764" t="0" r="0" b="0"/>
          <a:stretch/>
        </p:blipFill>
        <p:spPr>
          <a:xfrm>
            <a:off x="0" y="5257800"/>
            <a:ext cx="703440" cy="1460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5D8A-8095-4C4A-85CF-201BB76446C1}" type="datetime">
              <a:rPr b="0" lang="en-US" sz="1200" spc="-1" strike="noStrike">
                <a:solidFill>
                  <a:srgbClr val="00446a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 flipH="1">
            <a:off x="685800" y="6172200"/>
            <a:ext cx="7772400" cy="0"/>
          </a:xfrm>
          <a:prstGeom prst="line">
            <a:avLst/>
          </a:prstGeom>
          <a:ln w="28440">
            <a:solidFill>
              <a:srgbClr val="66bc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2"/>
          <a:srcRect l="9764" t="0" r="0" b="0"/>
          <a:stretch/>
        </p:blipFill>
        <p:spPr>
          <a:xfrm>
            <a:off x="0" y="5257800"/>
            <a:ext cx="703440" cy="1460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" descr=""/>
          <p:cNvPicPr/>
          <p:nvPr/>
        </p:nvPicPr>
        <p:blipFill>
          <a:blip r:embed="rId3"/>
          <a:stretch/>
        </p:blipFill>
        <p:spPr>
          <a:xfrm>
            <a:off x="7164360" y="44280"/>
            <a:ext cx="1800360" cy="1122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2008080" cy="1641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365B-B209-4BAE-A5DD-33DA8ABAC683}" type="datetime">
              <a:rPr b="0" lang="en-US" sz="1200" spc="-1" strike="noStrike">
                <a:solidFill>
                  <a:srgbClr val="00446a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812000" y="630864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7A0D-71C2-4394-B4FF-931A5555C062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5.wmf"/><Relationship Id="rId8" Type="http://schemas.openxmlformats.org/officeDocument/2006/relationships/image" Target="../media/image6.jpe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wmf"/><Relationship Id="rId12" Type="http://schemas.openxmlformats.org/officeDocument/2006/relationships/image" Target="../media/image10.wmf"/><Relationship Id="rId13" Type="http://schemas.openxmlformats.org/officeDocument/2006/relationships/image" Target="../media/image5.wmf"/><Relationship Id="rId14" Type="http://schemas.openxmlformats.org/officeDocument/2006/relationships/image" Target="../media/image6.jpeg"/><Relationship Id="rId15" Type="http://schemas.openxmlformats.org/officeDocument/2006/relationships/image" Target="../media/image7.png"/><Relationship Id="rId16" Type="http://schemas.openxmlformats.org/officeDocument/2006/relationships/image" Target="../media/image8.png"/><Relationship Id="rId17" Type="http://schemas.openxmlformats.org/officeDocument/2006/relationships/image" Target="../media/image9.wmf"/><Relationship Id="rId18" Type="http://schemas.openxmlformats.org/officeDocument/2006/relationships/image" Target="../media/image10.wmf"/><Relationship Id="rId19" Type="http://schemas.openxmlformats.org/officeDocument/2006/relationships/image" Target="../media/image5.wmf"/><Relationship Id="rId20" Type="http://schemas.openxmlformats.org/officeDocument/2006/relationships/image" Target="../media/image6.jpeg"/><Relationship Id="rId21" Type="http://schemas.openxmlformats.org/officeDocument/2006/relationships/image" Target="../media/image7.png"/><Relationship Id="rId22" Type="http://schemas.openxmlformats.org/officeDocument/2006/relationships/image" Target="../media/image8.png"/><Relationship Id="rId23" Type="http://schemas.openxmlformats.org/officeDocument/2006/relationships/image" Target="../media/image9.wmf"/><Relationship Id="rId24" Type="http://schemas.openxmlformats.org/officeDocument/2006/relationships/image" Target="../media/image10.wmf"/><Relationship Id="rId25" Type="http://schemas.openxmlformats.org/officeDocument/2006/relationships/image" Target="../media/image5.wmf"/><Relationship Id="rId26" Type="http://schemas.openxmlformats.org/officeDocument/2006/relationships/image" Target="../media/image6.jpeg"/><Relationship Id="rId27" Type="http://schemas.openxmlformats.org/officeDocument/2006/relationships/image" Target="../media/image7.png"/><Relationship Id="rId28" Type="http://schemas.openxmlformats.org/officeDocument/2006/relationships/image" Target="../media/image8.png"/><Relationship Id="rId29" Type="http://schemas.openxmlformats.org/officeDocument/2006/relationships/image" Target="../media/image9.wmf"/><Relationship Id="rId30" Type="http://schemas.openxmlformats.org/officeDocument/2006/relationships/image" Target="../media/image10.wmf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openphacts.org/" TargetMode="External"/><Relationship Id="rId2" Type="http://schemas.openxmlformats.org/officeDocument/2006/relationships/hyperlink" Target="mailto:pmu@openphacts.org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image" Target="../media/image28.jpeg"/><Relationship Id="rId12" Type="http://schemas.openxmlformats.org/officeDocument/2006/relationships/image" Target="../media/image29.jpeg"/><Relationship Id="rId13" Type="http://schemas.openxmlformats.org/officeDocument/2006/relationships/image" Target="../media/image30.jpeg"/><Relationship Id="rId14" Type="http://schemas.openxmlformats.org/officeDocument/2006/relationships/image" Target="../media/image31.jpeg"/><Relationship Id="rId15" Type="http://schemas.openxmlformats.org/officeDocument/2006/relationships/image" Target="../media/image32.jpeg"/><Relationship Id="rId16" Type="http://schemas.openxmlformats.org/officeDocument/2006/relationships/image" Target="../media/image33.jpeg"/><Relationship Id="rId17" Type="http://schemas.openxmlformats.org/officeDocument/2006/relationships/image" Target="../media/image34.jpeg"/><Relationship Id="rId18" Type="http://schemas.openxmlformats.org/officeDocument/2006/relationships/image" Target="../media/image35.jpeg"/><Relationship Id="rId19" Type="http://schemas.openxmlformats.org/officeDocument/2006/relationships/image" Target="../media/image36.jpeg"/><Relationship Id="rId20" Type="http://schemas.openxmlformats.org/officeDocument/2006/relationships/image" Target="../media/image37.jpeg"/><Relationship Id="rId21" Type="http://schemas.openxmlformats.org/officeDocument/2006/relationships/image" Target="../media/image38.jpeg"/><Relationship Id="rId22" Type="http://schemas.openxmlformats.org/officeDocument/2006/relationships/image" Target="../media/image39.jpeg"/><Relationship Id="rId23" Type="http://schemas.openxmlformats.org/officeDocument/2006/relationships/image" Target="../media/image40.jpeg"/><Relationship Id="rId24" Type="http://schemas.openxmlformats.org/officeDocument/2006/relationships/image" Target="../media/image41.jpeg"/><Relationship Id="rId25" Type="http://schemas.openxmlformats.org/officeDocument/2006/relationships/image" Target="../media/image42.jpeg"/><Relationship Id="rId26" Type="http://schemas.openxmlformats.org/officeDocument/2006/relationships/image" Target="../media/image43.jpeg"/><Relationship Id="rId27" Type="http://schemas.openxmlformats.org/officeDocument/2006/relationships/image" Target="../media/image44.jpeg"/><Relationship Id="rId28" Type="http://schemas.openxmlformats.org/officeDocument/2006/relationships/image" Target="../media/image45.png"/><Relationship Id="rId2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54.png"/><Relationship Id="rId10" Type="http://schemas.openxmlformats.org/officeDocument/2006/relationships/image" Target="../media/image55.png"/><Relationship Id="rId11" Type="http://schemas.openxmlformats.org/officeDocument/2006/relationships/image" Target="../media/image56.png"/><Relationship Id="rId12" Type="http://schemas.openxmlformats.org/officeDocument/2006/relationships/image" Target="../media/image57.png"/><Relationship Id="rId13" Type="http://schemas.openxmlformats.org/officeDocument/2006/relationships/image" Target="../media/image58.png"/><Relationship Id="rId14" Type="http://schemas.openxmlformats.org/officeDocument/2006/relationships/image" Target="../media/image59.png"/><Relationship Id="rId15" Type="http://schemas.openxmlformats.org/officeDocument/2006/relationships/image" Target="../media/image60.png"/><Relationship Id="rId16" Type="http://schemas.openxmlformats.org/officeDocument/2006/relationships/image" Target="../media/image61.png"/><Relationship Id="rId17" Type="http://schemas.openxmlformats.org/officeDocument/2006/relationships/image" Target="../media/image62.png"/><Relationship Id="rId18" Type="http://schemas.openxmlformats.org/officeDocument/2006/relationships/image" Target="../media/image63.png"/><Relationship Id="rId19" Type="http://schemas.openxmlformats.org/officeDocument/2006/relationships/image" Target="../media/image64.png"/><Relationship Id="rId20" Type="http://schemas.openxmlformats.org/officeDocument/2006/relationships/image" Target="../media/image65.png"/><Relationship Id="rId21" Type="http://schemas.openxmlformats.org/officeDocument/2006/relationships/image" Target="../media/image66.png"/><Relationship Id="rId22" Type="http://schemas.openxmlformats.org/officeDocument/2006/relationships/image" Target="../media/image67.png"/><Relationship Id="rId23" Type="http://schemas.openxmlformats.org/officeDocument/2006/relationships/image" Target="../media/image68.png"/><Relationship Id="rId24" Type="http://schemas.openxmlformats.org/officeDocument/2006/relationships/image" Target="../media/image69.jpeg"/><Relationship Id="rId25" Type="http://schemas.openxmlformats.org/officeDocument/2006/relationships/image" Target="../media/image70.png"/><Relationship Id="rId26" Type="http://schemas.openxmlformats.org/officeDocument/2006/relationships/image" Target="../media/image71.png"/><Relationship Id="rId2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3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6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73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898989"/>
                </a:solidFill>
                <a:latin typeface="Calibri"/>
              </a:rPr>
              <a:t>Paul Groth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898989"/>
                </a:solidFill>
                <a:latin typeface="Calibri"/>
              </a:rPr>
              <a:t>http://www.few.vu.nl/~pgroth/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898989"/>
                </a:solidFill>
                <a:latin typeface="Calibri"/>
              </a:rPr>
              <a:t>@pgroth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898989"/>
                </a:solidFill>
                <a:latin typeface="Calibri"/>
              </a:rPr>
              <a:t>VU University Amsterdam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6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Espace réservé du numéro de diapositive 3"/>
          <p:cNvSpPr/>
          <p:nvPr/>
        </p:nvSpPr>
        <p:spPr>
          <a:xfrm>
            <a:off x="7812000" y="630864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4A67-837E-4C21-942B-55484E654B5A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Seite1"/>
          <p:cNvPicPr/>
          <p:nvPr/>
        </p:nvPicPr>
        <p:blipFill>
          <a:blip r:embed="rId1"/>
          <a:srcRect l="0" t="35950" r="41994" b="44008"/>
          <a:stretch/>
        </p:blipFill>
        <p:spPr>
          <a:xfrm>
            <a:off x="1835280" y="2133720"/>
            <a:ext cx="5305320" cy="13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9ACA-DCBF-4FAA-BDC8-053CEE7E216E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7" descr="oscar-screenshot.png"/>
          <p:cNvPicPr/>
          <p:nvPr/>
        </p:nvPicPr>
        <p:blipFill>
          <a:blip r:embed="rId1"/>
          <a:stretch/>
        </p:blipFill>
        <p:spPr>
          <a:xfrm>
            <a:off x="2340000" y="0"/>
            <a:ext cx="6192720" cy="6496200"/>
          </a:xfrm>
          <a:prstGeom prst="rect">
            <a:avLst/>
          </a:prstGeom>
          <a:ln w="0">
            <a:noFill/>
          </a:ln>
        </p:spPr>
      </p:pic>
      <p:sp>
        <p:nvSpPr>
          <p:cNvPr id="322" name="TextBox 8"/>
          <p:cNvSpPr/>
          <p:nvPr/>
        </p:nvSpPr>
        <p:spPr>
          <a:xfrm>
            <a:off x="476640" y="190440"/>
            <a:ext cx="13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op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Semantic interoperability approach</a:t>
            </a:r>
            <a:br>
              <a:rPr sz="4400"/>
            </a:b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46a"/>
                </a:solidFill>
                <a:latin typeface="Calibri"/>
              </a:rPr>
              <a:t>Principles 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46a"/>
                </a:solidFill>
                <a:latin typeface="Calibri"/>
              </a:rPr>
              <a:t>Respect data providers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46a"/>
                </a:solidFill>
                <a:latin typeface="Calibri"/>
              </a:rPr>
              <a:t>Make it easy for application developers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25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1B8A-2A8C-4F51-AC4F-1A2DFA07BCC2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Semantic interoperability approach</a:t>
            </a:r>
            <a:br>
              <a:rPr sz="4400"/>
            </a:b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28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9EFD-038F-48AF-83ED-C317B8369B4F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5" descr=""/>
          <p:cNvPicPr/>
          <p:nvPr/>
        </p:nvPicPr>
        <p:blipFill>
          <a:blip r:embed="rId1"/>
          <a:stretch/>
        </p:blipFill>
        <p:spPr>
          <a:xfrm>
            <a:off x="417600" y="1125360"/>
            <a:ext cx="8451720" cy="4515120"/>
          </a:xfrm>
          <a:prstGeom prst="rect">
            <a:avLst/>
          </a:prstGeom>
          <a:ln w="0">
            <a:noFill/>
          </a:ln>
        </p:spPr>
      </p:pic>
      <p:sp>
        <p:nvSpPr>
          <p:cNvPr id="331" name="Up Arrow 6"/>
          <p:cNvSpPr/>
          <p:nvPr/>
        </p:nvSpPr>
        <p:spPr>
          <a:xfrm>
            <a:off x="826920" y="3068640"/>
            <a:ext cx="576360" cy="792000"/>
          </a:xfrm>
          <a:prstGeom prst="upArrow">
            <a:avLst>
              <a:gd name="adj1" fmla="val 50000"/>
              <a:gd name="adj2" fmla="val 49984"/>
            </a:avLst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Semantic Resources – Data set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3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29CF-49E6-48A4-9C2B-B2E7CF504BE2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Object 8"/>
          <p:cNvGraphicFramePr/>
          <p:nvPr/>
        </p:nvGraphicFramePr>
        <p:xfrm>
          <a:off x="826920" y="1916280"/>
          <a:ext cx="751536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916280"/>
                    <a:ext cx="751536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Rectangle 2"/>
          <p:cNvSpPr/>
          <p:nvPr/>
        </p:nvSpPr>
        <p:spPr>
          <a:xfrm>
            <a:off x="-252360" y="765000"/>
            <a:ext cx="7993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6352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14,535,923 tr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16352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Semantic Resources - Mapping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3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EDD4-C3AA-4A36-9B2E-67ACAD0F4AAD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5" descr=""/>
          <p:cNvPicPr/>
          <p:nvPr/>
        </p:nvPicPr>
        <p:blipFill>
          <a:blip r:embed="rId1"/>
          <a:srcRect l="0" t="0" r="21360" b="0"/>
          <a:stretch/>
        </p:blipFill>
        <p:spPr>
          <a:xfrm>
            <a:off x="2556000" y="981000"/>
            <a:ext cx="2952720" cy="51386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6" descr=""/>
          <p:cNvPicPr/>
          <p:nvPr/>
        </p:nvPicPr>
        <p:blipFill>
          <a:blip r:embed="rId2"/>
          <a:srcRect l="0" t="0" r="19458" b="0"/>
          <a:stretch/>
        </p:blipFill>
        <p:spPr>
          <a:xfrm>
            <a:off x="5867280" y="981000"/>
            <a:ext cx="2665440" cy="4896000"/>
          </a:xfrm>
          <a:prstGeom prst="rect">
            <a:avLst/>
          </a:prstGeom>
          <a:ln w="0">
            <a:noFill/>
          </a:ln>
        </p:spPr>
      </p:pic>
      <p:sp>
        <p:nvSpPr>
          <p:cNvPr id="343" name="TextBox 7"/>
          <p:cNvSpPr/>
          <p:nvPr/>
        </p:nvSpPr>
        <p:spPr>
          <a:xfrm>
            <a:off x="224280" y="2276640"/>
            <a:ext cx="224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8 Mill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pp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446a"/>
                </a:solidFill>
                <a:latin typeface="Calibri"/>
              </a:rPr>
              <a:t>Semantic resources - Summary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Types of semantic resources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46a"/>
                </a:solidFill>
                <a:latin typeface="Calibri"/>
              </a:rPr>
              <a:t>RDF Datasets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46a"/>
                </a:solidFill>
                <a:latin typeface="Calibri"/>
              </a:rPr>
              <a:t>Mappings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46a"/>
                </a:solidFill>
                <a:latin typeface="Calibri"/>
              </a:rPr>
              <a:t>Terminologies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Calibri"/>
              </a:rPr>
              <a:t>Mesh, UMLS, NCIM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46a"/>
                </a:solidFill>
                <a:latin typeface="Calibri"/>
              </a:rPr>
              <a:t>Hierarchies are essential 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Calibri"/>
              </a:rPr>
              <a:t>E.G. Target Ontology, Gene Ontology, Enzyme classification 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Calibri"/>
              </a:rPr>
              <a:t>Class reasoning is essential 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46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Espace réservé du numéro de diapositive 5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5E4D-8A41-44DF-AA0E-5EF4DFB2B70F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46040" y="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46a"/>
                </a:solidFill>
                <a:latin typeface="Calibri"/>
              </a:rPr>
              <a:t>Methodology for semantic integration</a:t>
            </a:r>
            <a:endParaRPr b="0" lang="en-US" sz="4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68000" y="126828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446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46a"/>
                </a:solidFill>
                <a:latin typeface="Calibri"/>
              </a:rPr>
              <a:t>Define use cases 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446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46a"/>
                </a:solidFill>
                <a:latin typeface="Calibri"/>
              </a:rPr>
              <a:t>Data Providers – create RDF with VoID headers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446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46a"/>
                </a:solidFill>
                <a:latin typeface="Calibri"/>
              </a:rPr>
              <a:t>Create mappings 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Calibri"/>
              </a:rPr>
              <a:t>between dataset and known datasets (instance level)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Calibri"/>
              </a:rPr>
              <a:t>index for text to url conversion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446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46a"/>
                </a:solidFill>
                <a:latin typeface="Calibri"/>
              </a:rPr>
              <a:t>Ingest RDF into data cache (i.e. triple store)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446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46a"/>
                </a:solidFill>
                <a:latin typeface="Calibri"/>
              </a:rPr>
              <a:t>Define access paths to core concepts in data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446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46a"/>
                </a:solidFill>
                <a:latin typeface="Calibri"/>
              </a:rPr>
              <a:t>Extend or create sparql queries for API calls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446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46a"/>
                </a:solidFill>
                <a:latin typeface="Calibri"/>
              </a:rPr>
              <a:t>Publish api calls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446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50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2A62-F17A-4B20-8494-EB085A7EE194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4319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8a54"/>
                </a:solidFill>
                <a:latin typeface="Calibri"/>
              </a:rPr>
              <a:t>Its easy to integrate, but difficult to integrate well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</p:txBody>
      </p:sp>
      <p:grpSp>
        <p:nvGrpSpPr>
          <p:cNvPr id="353" name="Group 6"/>
          <p:cNvGrpSpPr/>
          <p:nvPr/>
        </p:nvGrpSpPr>
        <p:grpSpPr>
          <a:xfrm>
            <a:off x="507960" y="1324080"/>
            <a:ext cx="8115480" cy="3733560"/>
            <a:chOff x="507960" y="1324080"/>
            <a:chExt cx="8115480" cy="3733560"/>
          </a:xfrm>
        </p:grpSpPr>
        <p:pic>
          <p:nvPicPr>
            <p:cNvPr id="354" name="Picture 4" descr=""/>
            <p:cNvPicPr/>
            <p:nvPr/>
          </p:nvPicPr>
          <p:blipFill>
            <a:blip r:embed="rId1"/>
            <a:stretch/>
          </p:blipFill>
          <p:spPr>
            <a:xfrm>
              <a:off x="507960" y="1324080"/>
              <a:ext cx="8115480" cy="37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Rectangle 5"/>
            <p:cNvSpPr/>
            <p:nvPr/>
          </p:nvSpPr>
          <p:spPr>
            <a:xfrm>
              <a:off x="612720" y="2462040"/>
              <a:ext cx="3122640" cy="461880"/>
            </a:xfrm>
            <a:prstGeom prst="rect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Adoption of standard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446a"/>
                </a:solidFill>
                <a:latin typeface="Calibri"/>
              </a:rPr>
              <a:t>Basic Semweb standards</a:t>
            </a:r>
            <a:endParaRPr b="0" lang="en-US" sz="3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446a"/>
                </a:solidFill>
                <a:latin typeface="Calibri"/>
              </a:rPr>
              <a:t>SPARQL 1.1, RDF(S), SKOS</a:t>
            </a:r>
            <a:endParaRPr b="0" lang="en-US" sz="26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446a"/>
                </a:solidFill>
                <a:latin typeface="Calibri"/>
              </a:rPr>
              <a:t>Dataset descriptions</a:t>
            </a:r>
            <a:endParaRPr b="0" lang="en-US" sz="3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446a"/>
                </a:solidFill>
                <a:latin typeface="Calibri"/>
              </a:rPr>
              <a:t>Vocabulary of Interlinked Datasets (VoID)</a:t>
            </a:r>
            <a:endParaRPr b="0" lang="en-US" sz="26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446a"/>
                </a:solidFill>
                <a:latin typeface="Calibri"/>
              </a:rPr>
              <a:t>VoID linkset descriptions</a:t>
            </a:r>
            <a:endParaRPr b="0" lang="en-US" sz="26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446a"/>
                </a:solidFill>
                <a:latin typeface="Calibri"/>
              </a:rPr>
              <a:t>QUDT Quantities, Units, Dimensions and Types</a:t>
            </a:r>
            <a:endParaRPr b="0" lang="en-US" sz="30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446a"/>
                </a:solidFill>
                <a:latin typeface="Calibri"/>
              </a:rPr>
              <a:t>Provenance</a:t>
            </a:r>
            <a:endParaRPr b="0" lang="en-US" sz="3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446a"/>
                </a:solidFill>
                <a:latin typeface="Calibri"/>
              </a:rPr>
              <a:t>W3C PROV, PAV, Nanopublications</a:t>
            </a:r>
            <a:endParaRPr b="0" lang="en-US" sz="26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446a"/>
                </a:solidFill>
                <a:latin typeface="Calibri"/>
              </a:rPr>
              <a:t>BioPortal</a:t>
            </a:r>
            <a:endParaRPr b="0" lang="en-US" sz="30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58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2A11-BCB6-4A40-BD91-A5A76DEB7D2F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446a"/>
                </a:solidFill>
                <a:latin typeface="Calibri"/>
              </a:rPr>
              <a:t>Tooling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446a"/>
                </a:solidFill>
                <a:latin typeface="Calibri"/>
              </a:rPr>
              <a:t>Infrastructure</a:t>
            </a:r>
            <a:endParaRPr b="0" lang="en-US" sz="3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446a"/>
                </a:solidFill>
                <a:latin typeface="Calibri"/>
              </a:rPr>
              <a:t>Linked Data API </a:t>
            </a:r>
            <a:endParaRPr b="0" lang="en-US" sz="26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446a"/>
                </a:solidFill>
                <a:latin typeface="Calibri"/>
              </a:rPr>
              <a:t>Bridge DB - identifier to identifier mapping</a:t>
            </a:r>
            <a:endParaRPr b="0" lang="en-US" sz="26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446a"/>
                </a:solidFill>
                <a:latin typeface="Calibri"/>
              </a:rPr>
              <a:t>Concept Wiki - text to identifier mapping and curation</a:t>
            </a:r>
            <a:endParaRPr b="0" lang="en-US" sz="26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446a"/>
                </a:solidFill>
                <a:latin typeface="Calibri"/>
              </a:rPr>
              <a:t>Chemspider: chemistry registration and services</a:t>
            </a:r>
            <a:endParaRPr b="0" lang="en-US" sz="26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446a"/>
                </a:solidFill>
                <a:latin typeface="Calibri"/>
              </a:rPr>
              <a:t>Triple Store: Virtuoso Professional addition</a:t>
            </a:r>
            <a:endParaRPr b="0" lang="en-US" sz="26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446a"/>
                </a:solidFill>
                <a:latin typeface="Calibri"/>
              </a:rPr>
              <a:t>Data</a:t>
            </a:r>
            <a:endParaRPr b="0" lang="en-US" sz="3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446a"/>
                </a:solidFill>
                <a:latin typeface="Calibri"/>
              </a:rPr>
              <a:t>VoID descriptions and http and ftp sites</a:t>
            </a:r>
            <a:endParaRPr b="0" lang="en-US" sz="26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446a"/>
                </a:solidFill>
                <a:latin typeface="Calibri"/>
              </a:rPr>
              <a:t>Github for data conversion scripts</a:t>
            </a:r>
            <a:endParaRPr b="0" lang="en-US" sz="26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446a"/>
                </a:solidFill>
                <a:latin typeface="Calibri"/>
              </a:rPr>
              <a:t>Recommend turtle as RDF syntax </a:t>
            </a:r>
            <a:endParaRPr b="0" lang="en-US" sz="26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446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46a"/>
                </a:solidFill>
                <a:latin typeface="Calibri"/>
              </a:rPr>
              <a:t>friendly for scripting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62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0BF7-361B-4DC5-B4B6-509D906C307B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380880" y="83664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48a54"/>
                </a:solidFill>
                <a:latin typeface="Calibri"/>
              </a:rPr>
              <a:t>We are all doing this many times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20"/>
          <p:cNvGrpSpPr/>
          <p:nvPr/>
        </p:nvGrpSpPr>
        <p:grpSpPr>
          <a:xfrm>
            <a:off x="122400" y="836640"/>
            <a:ext cx="5386320" cy="2924280"/>
            <a:chOff x="122400" y="836640"/>
            <a:chExt cx="5386320" cy="2924280"/>
          </a:xfrm>
        </p:grpSpPr>
        <p:sp>
          <p:nvSpPr>
            <p:cNvPr id="101" name="Round Diagonal Corner Rectangle 143"/>
            <p:cNvSpPr/>
            <p:nvPr/>
          </p:nvSpPr>
          <p:spPr>
            <a:xfrm>
              <a:off x="122400" y="1407960"/>
              <a:ext cx="5386320" cy="2352960"/>
            </a:xfrm>
            <a:custGeom>
              <a:avLst/>
              <a:gdLst/>
              <a:ahLst/>
              <a:rect l="l" t="t" r="r" b="b"/>
              <a:pathLst>
                <a:path w="5386894" h="2352734">
                  <a:moveTo>
                    <a:pt x="392130" y="0"/>
                  </a:moveTo>
                  <a:lnTo>
                    <a:pt x="5386894" y="0"/>
                  </a:lnTo>
                  <a:lnTo>
                    <a:pt x="5386894" y="0"/>
                  </a:lnTo>
                  <a:lnTo>
                    <a:pt x="5386894" y="1960604"/>
                  </a:lnTo>
                  <a:cubicBezTo>
                    <a:pt x="5386894" y="2177171"/>
                    <a:pt x="5211331" y="2352734"/>
                    <a:pt x="4994764" y="2352734"/>
                  </a:cubicBezTo>
                  <a:lnTo>
                    <a:pt x="0" y="2352734"/>
                  </a:lnTo>
                  <a:lnTo>
                    <a:pt x="0" y="2352734"/>
                  </a:lnTo>
                  <a:lnTo>
                    <a:pt x="0" y="392130"/>
                  </a:lnTo>
                  <a:cubicBezTo>
                    <a:pt x="0" y="175563"/>
                    <a:pt x="175563" y="0"/>
                    <a:pt x="3921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3a7ccb"/>
                </a:gs>
                <a:gs pos="100000">
                  <a:srgbClr val="2c5d98"/>
                </a:gs>
              </a:gsLst>
              <a:lin ang="5400000"/>
            </a:gradFill>
            <a:ln w="9360">
              <a:solidFill>
                <a:srgbClr val="4a7eb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142"/>
            <p:cNvGrpSpPr/>
            <p:nvPr/>
          </p:nvGrpSpPr>
          <p:grpSpPr>
            <a:xfrm>
              <a:off x="348840" y="836640"/>
              <a:ext cx="5029200" cy="2908800"/>
              <a:chOff x="348840" y="836640"/>
              <a:chExt cx="5029200" cy="2908800"/>
            </a:xfrm>
          </p:grpSpPr>
          <p:grpSp>
            <p:nvGrpSpPr>
              <p:cNvPr id="103" name="Group 118"/>
              <p:cNvGrpSpPr/>
              <p:nvPr/>
            </p:nvGrpSpPr>
            <p:grpSpPr>
              <a:xfrm>
                <a:off x="348840" y="836640"/>
                <a:ext cx="5029200" cy="2908800"/>
                <a:chOff x="348840" y="836640"/>
                <a:chExt cx="5029200" cy="2908800"/>
              </a:xfrm>
            </p:grpSpPr>
            <p:grpSp>
              <p:nvGrpSpPr>
                <p:cNvPr id="104" name="Group 18"/>
                <p:cNvGrpSpPr/>
                <p:nvPr/>
              </p:nvGrpSpPr>
              <p:grpSpPr>
                <a:xfrm>
                  <a:off x="1709280" y="836640"/>
                  <a:ext cx="2947320" cy="1214640"/>
                  <a:chOff x="1709280" y="836640"/>
                  <a:chExt cx="2947320" cy="1214640"/>
                </a:xfrm>
              </p:grpSpPr>
              <p:sp>
                <p:nvSpPr>
                  <p:cNvPr id="105" name="Line 11"/>
                  <p:cNvSpPr/>
                  <p:nvPr/>
                </p:nvSpPr>
                <p:spPr>
                  <a:xfrm>
                    <a:off x="1709280" y="2051280"/>
                    <a:ext cx="517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Line 13"/>
                  <p:cNvSpPr/>
                  <p:nvPr/>
                </p:nvSpPr>
                <p:spPr>
                  <a:xfrm>
                    <a:off x="4656600" y="8366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07" name="Picture 1" descr="C:\Documents and Settings\williams_bi\Local Settings\Temporary Internet Files\Content.IE5\NCB4CN79\MC900311860[1].wmf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94280" y="1626840"/>
                  <a:ext cx="1144080" cy="857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" name="Picture 3" descr="C:\Documents and Settings\williams_bi\Local Settings\Temporary Internet Files\Content.IE5\O5HQD79B\MP900402692[1].jpg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307240" y="1681560"/>
                  <a:ext cx="1256040" cy="81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" name="Picture 5" descr="C:\Documents and Settings\williams_bi\Local Settings\Temporary Internet Files\Content.IE5\PJ71VBD2\MC900431499[1].png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147920" y="2885760"/>
                  <a:ext cx="1153800" cy="824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" name="Picture 6" descr="C:\Documents and Settings\williams_bi\Local Settings\Temporary Internet Files\Content.IE5\KD2YG92R\MC900432644[1].png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296240" y="1613160"/>
                  <a:ext cx="1081800" cy="876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" name="Picture 7" descr="C:\Documents and Settings\williams_bi\Local Settings\Temporary Internet Files\Content.IE5\1AMI4QH7\MC900059570[1].wmf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226600" y="2885760"/>
                  <a:ext cx="1114200" cy="793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" name="Line 12"/>
                <p:cNvSpPr/>
                <p:nvPr/>
              </p:nvSpPr>
              <p:spPr>
                <a:xfrm>
                  <a:off x="3598920" y="2050920"/>
                  <a:ext cx="549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Line 12"/>
                <p:cNvSpPr/>
                <p:nvPr/>
              </p:nvSpPr>
              <p:spPr>
                <a:xfrm flipH="1">
                  <a:off x="3420000" y="3273480"/>
                  <a:ext cx="549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Line 12"/>
                <p:cNvSpPr/>
                <p:nvPr/>
              </p:nvSpPr>
              <p:spPr>
                <a:xfrm flipH="1">
                  <a:off x="1523880" y="3273480"/>
                  <a:ext cx="549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15" name="Picture 9" descr="C:\Documents and Settings\williams_bi\Local Settings\Temporary Internet Files\Content.IE5\J3TDAGIZ\MC900059634[1].wmf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48840" y="2885760"/>
                  <a:ext cx="1063440" cy="859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6" name="Line 13"/>
              <p:cNvSpPr/>
              <p:nvPr/>
            </p:nvSpPr>
            <p:spPr>
              <a:xfrm>
                <a:off x="4809960" y="2423160"/>
                <a:ext cx="0" cy="46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TextBox 134"/>
          <p:cNvSpPr/>
          <p:nvPr/>
        </p:nvSpPr>
        <p:spPr>
          <a:xfrm>
            <a:off x="4739040" y="103824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48a54"/>
                </a:solidFill>
                <a:latin typeface="Arial"/>
              </a:rPr>
              <a:t>Pfi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212"/>
          <p:cNvGrpSpPr/>
          <p:nvPr/>
        </p:nvGrpSpPr>
        <p:grpSpPr>
          <a:xfrm>
            <a:off x="646200" y="1174680"/>
            <a:ext cx="5386320" cy="2924280"/>
            <a:chOff x="646200" y="1174680"/>
            <a:chExt cx="5386320" cy="2924280"/>
          </a:xfrm>
        </p:grpSpPr>
        <p:grpSp>
          <p:nvGrpSpPr>
            <p:cNvPr id="119" name="Group 135"/>
            <p:cNvGrpSpPr/>
            <p:nvPr/>
          </p:nvGrpSpPr>
          <p:grpSpPr>
            <a:xfrm>
              <a:off x="646200" y="1174680"/>
              <a:ext cx="5386320" cy="2924280"/>
              <a:chOff x="646200" y="1174680"/>
              <a:chExt cx="5386320" cy="2924280"/>
            </a:xfrm>
          </p:grpSpPr>
          <p:sp>
            <p:nvSpPr>
              <p:cNvPr id="120" name="Round Diagonal Corner Rectangle 136"/>
              <p:cNvSpPr/>
              <p:nvPr/>
            </p:nvSpPr>
            <p:spPr>
              <a:xfrm>
                <a:off x="646200" y="1746000"/>
                <a:ext cx="5386320" cy="2352960"/>
              </a:xfrm>
              <a:custGeom>
                <a:avLst/>
                <a:gdLst/>
                <a:ahLst/>
                <a:rect l="l" t="t" r="r" b="b"/>
                <a:pathLst>
                  <a:path w="5386894" h="2352734">
                    <a:moveTo>
                      <a:pt x="392130" y="0"/>
                    </a:moveTo>
                    <a:lnTo>
                      <a:pt x="5386894" y="0"/>
                    </a:lnTo>
                    <a:lnTo>
                      <a:pt x="5386894" y="0"/>
                    </a:lnTo>
                    <a:lnTo>
                      <a:pt x="5386894" y="1960604"/>
                    </a:lnTo>
                    <a:cubicBezTo>
                      <a:pt x="5386894" y="2177171"/>
                      <a:pt x="5211331" y="2352734"/>
                      <a:pt x="4994764" y="2352734"/>
                    </a:cubicBezTo>
                    <a:lnTo>
                      <a:pt x="0" y="2352734"/>
                    </a:lnTo>
                    <a:lnTo>
                      <a:pt x="0" y="2352734"/>
                    </a:lnTo>
                    <a:lnTo>
                      <a:pt x="0" y="392130"/>
                    </a:lnTo>
                    <a:cubicBezTo>
                      <a:pt x="0" y="175563"/>
                      <a:pt x="175563" y="0"/>
                      <a:pt x="39213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a7ccb"/>
                  </a:gs>
                  <a:gs pos="100000">
                    <a:srgbClr val="2c5d98"/>
                  </a:gs>
                </a:gsLst>
                <a:lin ang="5400000"/>
              </a:gradFill>
              <a:ln w="9360">
                <a:solidFill>
                  <a:srgbClr val="4a7eb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" name="Group 142"/>
              <p:cNvGrpSpPr/>
              <p:nvPr/>
            </p:nvGrpSpPr>
            <p:grpSpPr>
              <a:xfrm>
                <a:off x="872640" y="1174680"/>
                <a:ext cx="5029200" cy="2908800"/>
                <a:chOff x="872640" y="1174680"/>
                <a:chExt cx="5029200" cy="2908800"/>
              </a:xfrm>
            </p:grpSpPr>
            <p:grpSp>
              <p:nvGrpSpPr>
                <p:cNvPr id="122" name="Group 118"/>
                <p:cNvGrpSpPr/>
                <p:nvPr/>
              </p:nvGrpSpPr>
              <p:grpSpPr>
                <a:xfrm>
                  <a:off x="872640" y="1174680"/>
                  <a:ext cx="5029200" cy="2908800"/>
                  <a:chOff x="872640" y="1174680"/>
                  <a:chExt cx="5029200" cy="2908800"/>
                </a:xfrm>
              </p:grpSpPr>
              <p:grpSp>
                <p:nvGrpSpPr>
                  <p:cNvPr id="123" name="Group 18"/>
                  <p:cNvGrpSpPr/>
                  <p:nvPr/>
                </p:nvGrpSpPr>
                <p:grpSpPr>
                  <a:xfrm>
                    <a:off x="2233080" y="1174680"/>
                    <a:ext cx="2947320" cy="1402200"/>
                    <a:chOff x="2233080" y="1174680"/>
                    <a:chExt cx="2947320" cy="1402200"/>
                  </a:xfrm>
                </p:grpSpPr>
                <p:sp>
                  <p:nvSpPr>
                    <p:cNvPr id="124" name="Line 11"/>
                    <p:cNvSpPr/>
                    <p:nvPr/>
                  </p:nvSpPr>
                  <p:spPr>
                    <a:xfrm>
                      <a:off x="2233080" y="2576880"/>
                      <a:ext cx="517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Line 13"/>
                    <p:cNvSpPr/>
                    <p:nvPr/>
                  </p:nvSpPr>
                  <p:spPr>
                    <a:xfrm>
                      <a:off x="5180400" y="1174680"/>
                      <a:ext cx="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126" name="Picture 1" descr="C:\Documents and Settings\williams_bi\Local Settings\Temporary Internet Files\Content.IE5\NCB4CN79\MC900311860[1].wmf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18080" y="1964880"/>
                    <a:ext cx="1144080" cy="8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27" name="Picture 3" descr="C:\Documents and Settings\williams_bi\Local Settings\Temporary Internet Files\Content.IE5\O5HQD79B\MP900402692[1].jpg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31040" y="2019600"/>
                    <a:ext cx="1256040" cy="81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28" name="Picture 5" descr="C:\Documents and Settings\williams_bi\Local Settings\Temporary Internet Files\Content.IE5\PJ71VBD2\MC900431499[1].png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671720" y="3223800"/>
                    <a:ext cx="1153800" cy="8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29" name="Picture 6" descr="C:\Documents and Settings\williams_bi\Local Settings\Temporary Internet Files\Content.IE5\KD2YG92R\MC900432644[1].png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20040" y="1951200"/>
                    <a:ext cx="1081800" cy="8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0" name="Picture 7" descr="C:\Documents and Settings\williams_bi\Local Settings\Temporary Internet Files\Content.IE5\1AMI4QH7\MC900059570[1].wmf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750400" y="3223800"/>
                    <a:ext cx="1114200" cy="79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1" name="Line 12"/>
                  <p:cNvSpPr/>
                  <p:nvPr/>
                </p:nvSpPr>
                <p:spPr>
                  <a:xfrm>
                    <a:off x="4122720" y="2389320"/>
                    <a:ext cx="549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Line 12"/>
                  <p:cNvSpPr/>
                  <p:nvPr/>
                </p:nvSpPr>
                <p:spPr>
                  <a:xfrm flipH="1">
                    <a:off x="3944520" y="3611880"/>
                    <a:ext cx="549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Line 12"/>
                  <p:cNvSpPr/>
                  <p:nvPr/>
                </p:nvSpPr>
                <p:spPr>
                  <a:xfrm flipH="1">
                    <a:off x="2047320" y="3611880"/>
                    <a:ext cx="549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34" name="Picture 9" descr="C:\Documents and Settings\williams_bi\Local Settings\Temporary Internet Files\Content.IE5\J3TDAGIZ\MC900059634[1].wmf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72640" y="3223800"/>
                    <a:ext cx="1063440" cy="8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135" name="Line 13"/>
                <p:cNvSpPr/>
                <p:nvPr/>
              </p:nvSpPr>
              <p:spPr>
                <a:xfrm>
                  <a:off x="5334120" y="2760840"/>
                  <a:ext cx="0" cy="461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" name="TextBox 157"/>
            <p:cNvSpPr/>
            <p:nvPr/>
          </p:nvSpPr>
          <p:spPr>
            <a:xfrm>
              <a:off x="5556240" y="137628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948a54"/>
                  </a:solidFill>
                  <a:latin typeface="Arial"/>
                </a:rPr>
                <a:t>A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213"/>
          <p:cNvGrpSpPr/>
          <p:nvPr/>
        </p:nvGrpSpPr>
        <p:grpSpPr>
          <a:xfrm>
            <a:off x="1251000" y="1514520"/>
            <a:ext cx="5576040" cy="2924280"/>
            <a:chOff x="1251000" y="1514520"/>
            <a:chExt cx="5576040" cy="2924280"/>
          </a:xfrm>
        </p:grpSpPr>
        <p:grpSp>
          <p:nvGrpSpPr>
            <p:cNvPr id="138" name="Group 158"/>
            <p:cNvGrpSpPr/>
            <p:nvPr/>
          </p:nvGrpSpPr>
          <p:grpSpPr>
            <a:xfrm>
              <a:off x="1251000" y="1514520"/>
              <a:ext cx="5387760" cy="2924280"/>
              <a:chOff x="1251000" y="1514520"/>
              <a:chExt cx="5387760" cy="2924280"/>
            </a:xfrm>
          </p:grpSpPr>
          <p:sp>
            <p:nvSpPr>
              <p:cNvPr id="139" name="Round Diagonal Corner Rectangle 159"/>
              <p:cNvSpPr/>
              <p:nvPr/>
            </p:nvSpPr>
            <p:spPr>
              <a:xfrm>
                <a:off x="1251000" y="2085840"/>
                <a:ext cx="5387760" cy="2352960"/>
              </a:xfrm>
              <a:custGeom>
                <a:avLst/>
                <a:gdLst/>
                <a:ahLst/>
                <a:rect l="l" t="t" r="r" b="b"/>
                <a:pathLst>
                  <a:path w="5387195" h="2352734">
                    <a:moveTo>
                      <a:pt x="392130" y="0"/>
                    </a:moveTo>
                    <a:lnTo>
                      <a:pt x="5387195" y="0"/>
                    </a:lnTo>
                    <a:lnTo>
                      <a:pt x="5387195" y="0"/>
                    </a:lnTo>
                    <a:lnTo>
                      <a:pt x="5387195" y="1960604"/>
                    </a:lnTo>
                    <a:cubicBezTo>
                      <a:pt x="5387195" y="2177171"/>
                      <a:pt x="5211632" y="2352734"/>
                      <a:pt x="4995065" y="2352734"/>
                    </a:cubicBezTo>
                    <a:lnTo>
                      <a:pt x="0" y="2352734"/>
                    </a:lnTo>
                    <a:lnTo>
                      <a:pt x="0" y="2352734"/>
                    </a:lnTo>
                    <a:lnTo>
                      <a:pt x="0" y="392130"/>
                    </a:lnTo>
                    <a:cubicBezTo>
                      <a:pt x="0" y="175563"/>
                      <a:pt x="175563" y="0"/>
                      <a:pt x="39213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a7ccb"/>
                  </a:gs>
                  <a:gs pos="100000">
                    <a:srgbClr val="2c5d98"/>
                  </a:gs>
                </a:gsLst>
                <a:lin ang="5400000"/>
              </a:gradFill>
              <a:ln w="9360">
                <a:solidFill>
                  <a:srgbClr val="4a7eb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0" name="Group 142"/>
              <p:cNvGrpSpPr/>
              <p:nvPr/>
            </p:nvGrpSpPr>
            <p:grpSpPr>
              <a:xfrm>
                <a:off x="1477440" y="1514520"/>
                <a:ext cx="5030280" cy="2908800"/>
                <a:chOff x="1477440" y="1514520"/>
                <a:chExt cx="5030280" cy="2908800"/>
              </a:xfrm>
            </p:grpSpPr>
            <p:grpSp>
              <p:nvGrpSpPr>
                <p:cNvPr id="141" name="Group 118"/>
                <p:cNvGrpSpPr/>
                <p:nvPr/>
              </p:nvGrpSpPr>
              <p:grpSpPr>
                <a:xfrm>
                  <a:off x="1477440" y="1514520"/>
                  <a:ext cx="5030280" cy="2908800"/>
                  <a:chOff x="1477440" y="1514520"/>
                  <a:chExt cx="5030280" cy="2908800"/>
                </a:xfrm>
              </p:grpSpPr>
              <p:grpSp>
                <p:nvGrpSpPr>
                  <p:cNvPr id="142" name="Group 18"/>
                  <p:cNvGrpSpPr/>
                  <p:nvPr/>
                </p:nvGrpSpPr>
                <p:grpSpPr>
                  <a:xfrm>
                    <a:off x="2838240" y="1514520"/>
                    <a:ext cx="2948040" cy="1402200"/>
                    <a:chOff x="2838240" y="1514520"/>
                    <a:chExt cx="2948040" cy="1402200"/>
                  </a:xfrm>
                </p:grpSpPr>
                <p:sp>
                  <p:nvSpPr>
                    <p:cNvPr id="143" name="Line 11"/>
                    <p:cNvSpPr/>
                    <p:nvPr/>
                  </p:nvSpPr>
                  <p:spPr>
                    <a:xfrm>
                      <a:off x="2838240" y="2916720"/>
                      <a:ext cx="5169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Line 13"/>
                    <p:cNvSpPr/>
                    <p:nvPr/>
                  </p:nvSpPr>
                  <p:spPr>
                    <a:xfrm>
                      <a:off x="5786280" y="1514520"/>
                      <a:ext cx="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145" name="Picture 1" descr="C:\Documents and Settings\williams_bi\Local Settings\Temporary Internet Files\Content.IE5\NCB4CN79\MC900311860[1].wmf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622880" y="2304720"/>
                    <a:ext cx="1144440" cy="8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6" name="Picture 3" descr="C:\Documents and Settings\williams_bi\Local Settings\Temporary Internet Files\Content.IE5\O5HQD79B\MP900402692[1].jpg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436560" y="2359440"/>
                    <a:ext cx="1256400" cy="81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7" name="Picture 5" descr="C:\Documents and Settings\williams_bi\Local Settings\Temporary Internet Files\Content.IE5\PJ71VBD2\MC900431499[1].png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277240" y="3563640"/>
                    <a:ext cx="1154160" cy="8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8" name="Picture 6" descr="C:\Documents and Settings\williams_bi\Local Settings\Temporary Internet Files\Content.IE5\KD2YG92R\MC900432644[1].png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425560" y="2291040"/>
                    <a:ext cx="1082160" cy="8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9" name="Picture 7" descr="C:\Documents and Settings\williams_bi\Local Settings\Temporary Internet Files\Content.IE5\1AMI4QH7\MC900059570[1].wmf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355560" y="3563640"/>
                    <a:ext cx="1114560" cy="79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0" name="Line 12"/>
                  <p:cNvSpPr/>
                  <p:nvPr/>
                </p:nvSpPr>
                <p:spPr>
                  <a:xfrm>
                    <a:off x="4728960" y="2729160"/>
                    <a:ext cx="549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Line 12"/>
                  <p:cNvSpPr/>
                  <p:nvPr/>
                </p:nvSpPr>
                <p:spPr>
                  <a:xfrm flipH="1">
                    <a:off x="4549320" y="3951720"/>
                    <a:ext cx="549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Line 12"/>
                  <p:cNvSpPr/>
                  <p:nvPr/>
                </p:nvSpPr>
                <p:spPr>
                  <a:xfrm flipH="1">
                    <a:off x="2653560" y="3951720"/>
                    <a:ext cx="549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53" name="Picture 9" descr="C:\Documents and Settings\williams_bi\Local Settings\Temporary Internet Files\Content.IE5\J3TDAGIZ\MC900059634[1].wmf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477440" y="3563640"/>
                    <a:ext cx="1063800" cy="8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154" name="Line 13"/>
                <p:cNvSpPr/>
                <p:nvPr/>
              </p:nvSpPr>
              <p:spPr>
                <a:xfrm>
                  <a:off x="5940360" y="3100680"/>
                  <a:ext cx="0" cy="461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" name="TextBox 175"/>
            <p:cNvSpPr/>
            <p:nvPr/>
          </p:nvSpPr>
          <p:spPr>
            <a:xfrm>
              <a:off x="6163200" y="1716120"/>
              <a:ext cx="66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948a54"/>
                  </a:solidFill>
                  <a:latin typeface="Arial"/>
                </a:rPr>
                <a:t>G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214"/>
          <p:cNvGrpSpPr/>
          <p:nvPr/>
        </p:nvGrpSpPr>
        <p:grpSpPr>
          <a:xfrm>
            <a:off x="1835280" y="1909800"/>
            <a:ext cx="5716080" cy="2924280"/>
            <a:chOff x="1835280" y="1909800"/>
            <a:chExt cx="5716080" cy="2924280"/>
          </a:xfrm>
        </p:grpSpPr>
        <p:grpSp>
          <p:nvGrpSpPr>
            <p:cNvPr id="157" name="Group 176"/>
            <p:cNvGrpSpPr/>
            <p:nvPr/>
          </p:nvGrpSpPr>
          <p:grpSpPr>
            <a:xfrm>
              <a:off x="1835280" y="1909800"/>
              <a:ext cx="5387760" cy="2924280"/>
              <a:chOff x="1835280" y="1909800"/>
              <a:chExt cx="5387760" cy="2924280"/>
            </a:xfrm>
          </p:grpSpPr>
          <p:sp>
            <p:nvSpPr>
              <p:cNvPr id="158" name="Round Diagonal Corner Rectangle 177"/>
              <p:cNvSpPr/>
              <p:nvPr/>
            </p:nvSpPr>
            <p:spPr>
              <a:xfrm>
                <a:off x="1835280" y="2481120"/>
                <a:ext cx="5387760" cy="2352960"/>
              </a:xfrm>
              <a:custGeom>
                <a:avLst/>
                <a:gdLst/>
                <a:ahLst/>
                <a:rect l="l" t="t" r="r" b="b"/>
                <a:pathLst>
                  <a:path w="5387004" h="2352734">
                    <a:moveTo>
                      <a:pt x="392130" y="0"/>
                    </a:moveTo>
                    <a:lnTo>
                      <a:pt x="5387004" y="0"/>
                    </a:lnTo>
                    <a:lnTo>
                      <a:pt x="5387004" y="0"/>
                    </a:lnTo>
                    <a:lnTo>
                      <a:pt x="5387004" y="1960604"/>
                    </a:lnTo>
                    <a:cubicBezTo>
                      <a:pt x="5387004" y="2177171"/>
                      <a:pt x="5211441" y="2352734"/>
                      <a:pt x="4994874" y="2352734"/>
                    </a:cubicBezTo>
                    <a:lnTo>
                      <a:pt x="0" y="2352734"/>
                    </a:lnTo>
                    <a:lnTo>
                      <a:pt x="0" y="2352734"/>
                    </a:lnTo>
                    <a:lnTo>
                      <a:pt x="0" y="392130"/>
                    </a:lnTo>
                    <a:cubicBezTo>
                      <a:pt x="0" y="175563"/>
                      <a:pt x="175563" y="0"/>
                      <a:pt x="39213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a7ccb"/>
                  </a:gs>
                  <a:gs pos="100000">
                    <a:srgbClr val="2c5d98"/>
                  </a:gs>
                </a:gsLst>
                <a:lin ang="5400000"/>
              </a:gradFill>
              <a:ln w="9360">
                <a:solidFill>
                  <a:srgbClr val="4a7eb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" name="Group 142"/>
              <p:cNvGrpSpPr/>
              <p:nvPr/>
            </p:nvGrpSpPr>
            <p:grpSpPr>
              <a:xfrm>
                <a:off x="2061720" y="1909800"/>
                <a:ext cx="5030640" cy="2908800"/>
                <a:chOff x="2061720" y="1909800"/>
                <a:chExt cx="5030640" cy="2908800"/>
              </a:xfrm>
            </p:grpSpPr>
            <p:grpSp>
              <p:nvGrpSpPr>
                <p:cNvPr id="160" name="Group 118"/>
                <p:cNvGrpSpPr/>
                <p:nvPr/>
              </p:nvGrpSpPr>
              <p:grpSpPr>
                <a:xfrm>
                  <a:off x="2061720" y="1909800"/>
                  <a:ext cx="5030640" cy="2908800"/>
                  <a:chOff x="2061720" y="1909800"/>
                  <a:chExt cx="5030640" cy="2908800"/>
                </a:xfrm>
              </p:grpSpPr>
              <p:grpSp>
                <p:nvGrpSpPr>
                  <p:cNvPr id="161" name="Group 18"/>
                  <p:cNvGrpSpPr/>
                  <p:nvPr/>
                </p:nvGrpSpPr>
                <p:grpSpPr>
                  <a:xfrm>
                    <a:off x="3422520" y="1909800"/>
                    <a:ext cx="2948400" cy="1402200"/>
                    <a:chOff x="3422520" y="1909800"/>
                    <a:chExt cx="2948400" cy="1402200"/>
                  </a:xfrm>
                </p:grpSpPr>
                <p:sp>
                  <p:nvSpPr>
                    <p:cNvPr id="162" name="Line 11"/>
                    <p:cNvSpPr/>
                    <p:nvPr/>
                  </p:nvSpPr>
                  <p:spPr>
                    <a:xfrm>
                      <a:off x="3422520" y="3312000"/>
                      <a:ext cx="5180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Line 13"/>
                    <p:cNvSpPr/>
                    <p:nvPr/>
                  </p:nvSpPr>
                  <p:spPr>
                    <a:xfrm>
                      <a:off x="6370920" y="1909800"/>
                      <a:ext cx="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164" name="Picture 1" descr="C:\Documents and Settings\williams_bi\Local Settings\Temporary Internet Files\Content.IE5\NCB4CN79\MC900311860[1].wmf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207160" y="2700000"/>
                    <a:ext cx="1144440" cy="8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5" name="Picture 3" descr="C:\Documents and Settings\williams_bi\Local Settings\Temporary Internet Files\Content.IE5\O5HQD79B\MP900402692[1].jpg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020840" y="2754720"/>
                    <a:ext cx="1256400" cy="81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6" name="Picture 5" descr="C:\Documents and Settings\williams_bi\Local Settings\Temporary Internet Files\Content.IE5\PJ71VBD2\MC900431499[1].png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861880" y="3958920"/>
                    <a:ext cx="1154160" cy="8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7" name="Picture 6" descr="C:\Documents and Settings\williams_bi\Local Settings\Temporary Internet Files\Content.IE5\KD2YG92R\MC900432644[1].png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010200" y="2686320"/>
                    <a:ext cx="1082160" cy="8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8" name="Picture 7" descr="C:\Documents and Settings\williams_bi\Local Settings\Temporary Internet Files\Content.IE5\1AMI4QH7\MC900059570[1].wmf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3939840" y="3958920"/>
                    <a:ext cx="1114560" cy="79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" name="Line 12"/>
                  <p:cNvSpPr/>
                  <p:nvPr/>
                </p:nvSpPr>
                <p:spPr>
                  <a:xfrm>
                    <a:off x="5312520" y="3124080"/>
                    <a:ext cx="549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Line 12"/>
                  <p:cNvSpPr/>
                  <p:nvPr/>
                </p:nvSpPr>
                <p:spPr>
                  <a:xfrm flipH="1">
                    <a:off x="5133960" y="4346640"/>
                    <a:ext cx="549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12"/>
                  <p:cNvSpPr/>
                  <p:nvPr/>
                </p:nvSpPr>
                <p:spPr>
                  <a:xfrm flipH="1">
                    <a:off x="3237120" y="4346640"/>
                    <a:ext cx="549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72" name="Picture 9" descr="C:\Documents and Settings\williams_bi\Local Settings\Temporary Internet Files\Content.IE5\J3TDAGIZ\MC900059634[1].wmf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061720" y="3958920"/>
                    <a:ext cx="1063800" cy="8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173" name="Line 13"/>
                <p:cNvSpPr/>
                <p:nvPr/>
              </p:nvSpPr>
              <p:spPr>
                <a:xfrm>
                  <a:off x="6524280" y="3496320"/>
                  <a:ext cx="0" cy="462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4" name="TextBox 193"/>
            <p:cNvSpPr/>
            <p:nvPr/>
          </p:nvSpPr>
          <p:spPr>
            <a:xfrm>
              <a:off x="6748920" y="2111400"/>
              <a:ext cx="80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948a54"/>
                  </a:solidFill>
                  <a:latin typeface="Arial"/>
                </a:rPr>
                <a:t>Mer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215"/>
          <p:cNvGrpSpPr/>
          <p:nvPr/>
        </p:nvGrpSpPr>
        <p:grpSpPr>
          <a:xfrm>
            <a:off x="3238560" y="2976480"/>
            <a:ext cx="5386320" cy="2924280"/>
            <a:chOff x="3238560" y="2976480"/>
            <a:chExt cx="5386320" cy="2924280"/>
          </a:xfrm>
        </p:grpSpPr>
        <p:grpSp>
          <p:nvGrpSpPr>
            <p:cNvPr id="176" name="Group 194"/>
            <p:cNvGrpSpPr/>
            <p:nvPr/>
          </p:nvGrpSpPr>
          <p:grpSpPr>
            <a:xfrm>
              <a:off x="3238560" y="2976480"/>
              <a:ext cx="5386320" cy="2924280"/>
              <a:chOff x="3238560" y="2976480"/>
              <a:chExt cx="5386320" cy="2924280"/>
            </a:xfrm>
          </p:grpSpPr>
          <p:sp>
            <p:nvSpPr>
              <p:cNvPr id="177" name="Round Diagonal Corner Rectangle 195"/>
              <p:cNvSpPr/>
              <p:nvPr/>
            </p:nvSpPr>
            <p:spPr>
              <a:xfrm>
                <a:off x="3238560" y="3547800"/>
                <a:ext cx="5386320" cy="2352960"/>
              </a:xfrm>
              <a:custGeom>
                <a:avLst/>
                <a:gdLst/>
                <a:ahLst/>
                <a:rect l="l" t="t" r="r" b="b"/>
                <a:pathLst>
                  <a:path w="5386894" h="2352734">
                    <a:moveTo>
                      <a:pt x="392130" y="0"/>
                    </a:moveTo>
                    <a:lnTo>
                      <a:pt x="5386894" y="0"/>
                    </a:lnTo>
                    <a:lnTo>
                      <a:pt x="5386894" y="0"/>
                    </a:lnTo>
                    <a:lnTo>
                      <a:pt x="5386894" y="1960604"/>
                    </a:lnTo>
                    <a:cubicBezTo>
                      <a:pt x="5386894" y="2177171"/>
                      <a:pt x="5211331" y="2352734"/>
                      <a:pt x="4994764" y="2352734"/>
                    </a:cubicBezTo>
                    <a:lnTo>
                      <a:pt x="0" y="2352734"/>
                    </a:lnTo>
                    <a:lnTo>
                      <a:pt x="0" y="2352734"/>
                    </a:lnTo>
                    <a:lnTo>
                      <a:pt x="0" y="392130"/>
                    </a:lnTo>
                    <a:cubicBezTo>
                      <a:pt x="0" y="175563"/>
                      <a:pt x="175563" y="0"/>
                      <a:pt x="39213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a7ccb"/>
                  </a:gs>
                  <a:gs pos="100000">
                    <a:srgbClr val="2c5d98"/>
                  </a:gs>
                </a:gsLst>
                <a:lin ang="5400000"/>
              </a:gradFill>
              <a:ln w="9360">
                <a:solidFill>
                  <a:srgbClr val="4a7eb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8" name="Group 142"/>
              <p:cNvGrpSpPr/>
              <p:nvPr/>
            </p:nvGrpSpPr>
            <p:grpSpPr>
              <a:xfrm>
                <a:off x="3465000" y="2976480"/>
                <a:ext cx="5029200" cy="2908800"/>
                <a:chOff x="3465000" y="2976480"/>
                <a:chExt cx="5029200" cy="2908800"/>
              </a:xfrm>
            </p:grpSpPr>
            <p:grpSp>
              <p:nvGrpSpPr>
                <p:cNvPr id="179" name="Group 118"/>
                <p:cNvGrpSpPr/>
                <p:nvPr/>
              </p:nvGrpSpPr>
              <p:grpSpPr>
                <a:xfrm>
                  <a:off x="3465000" y="2976480"/>
                  <a:ext cx="5029200" cy="2908800"/>
                  <a:chOff x="3465000" y="2976480"/>
                  <a:chExt cx="5029200" cy="2908800"/>
                </a:xfrm>
              </p:grpSpPr>
              <p:grpSp>
                <p:nvGrpSpPr>
                  <p:cNvPr id="180" name="Group 18"/>
                  <p:cNvGrpSpPr/>
                  <p:nvPr/>
                </p:nvGrpSpPr>
                <p:grpSpPr>
                  <a:xfrm>
                    <a:off x="4825440" y="2976480"/>
                    <a:ext cx="2947320" cy="1402200"/>
                    <a:chOff x="4825440" y="2976480"/>
                    <a:chExt cx="2947320" cy="1402200"/>
                  </a:xfrm>
                </p:grpSpPr>
                <p:sp>
                  <p:nvSpPr>
                    <p:cNvPr id="181" name="Line 11"/>
                    <p:cNvSpPr/>
                    <p:nvPr/>
                  </p:nvSpPr>
                  <p:spPr>
                    <a:xfrm>
                      <a:off x="4825440" y="4378680"/>
                      <a:ext cx="517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Line 13"/>
                    <p:cNvSpPr/>
                    <p:nvPr/>
                  </p:nvSpPr>
                  <p:spPr>
                    <a:xfrm>
                      <a:off x="7772760" y="2976480"/>
                      <a:ext cx="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183" name="Picture 1" descr="C:\Documents and Settings\williams_bi\Local Settings\Temporary Internet Files\Content.IE5\NCB4CN79\MC900311860[1].wmf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3610440" y="3766680"/>
                    <a:ext cx="1144080" cy="8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4" name="Picture 3" descr="C:\Documents and Settings\williams_bi\Local Settings\Temporary Internet Files\Content.IE5\O5HQD79B\MP900402692[1].jpg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423400" y="3821400"/>
                    <a:ext cx="1256040" cy="81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5" name="Picture 5" descr="C:\Documents and Settings\williams_bi\Local Settings\Temporary Internet Files\Content.IE5\PJ71VBD2\MC900431499[1].png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7264080" y="5025600"/>
                    <a:ext cx="1153800" cy="8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6" name="Picture 6" descr="C:\Documents and Settings\williams_bi\Local Settings\Temporary Internet Files\Content.IE5\KD2YG92R\MC900432644[1].png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412400" y="3753000"/>
                    <a:ext cx="1081800" cy="8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7" name="Picture 7" descr="C:\Documents and Settings\williams_bi\Local Settings\Temporary Internet Files\Content.IE5\1AMI4QH7\MC900059570[1].wmf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5342760" y="5025600"/>
                    <a:ext cx="1114200" cy="79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8" name="Line 12"/>
                  <p:cNvSpPr/>
                  <p:nvPr/>
                </p:nvSpPr>
                <p:spPr>
                  <a:xfrm>
                    <a:off x="6715080" y="4190760"/>
                    <a:ext cx="549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12"/>
                  <p:cNvSpPr/>
                  <p:nvPr/>
                </p:nvSpPr>
                <p:spPr>
                  <a:xfrm flipH="1">
                    <a:off x="6536160" y="5413320"/>
                    <a:ext cx="549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12"/>
                  <p:cNvSpPr/>
                  <p:nvPr/>
                </p:nvSpPr>
                <p:spPr>
                  <a:xfrm flipH="1">
                    <a:off x="4640040" y="5413320"/>
                    <a:ext cx="549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91" name="Picture 9" descr="C:\Documents and Settings\williams_bi\Local Settings\Temporary Internet Files\Content.IE5\J3TDAGIZ\MC900059634[1].wmf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465000" y="5025600"/>
                    <a:ext cx="1063440" cy="8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192" name="Line 13"/>
                <p:cNvSpPr/>
                <p:nvPr/>
              </p:nvSpPr>
              <p:spPr>
                <a:xfrm>
                  <a:off x="7926120" y="4563000"/>
                  <a:ext cx="0" cy="462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3" name="TextBox 211"/>
            <p:cNvSpPr/>
            <p:nvPr/>
          </p:nvSpPr>
          <p:spPr>
            <a:xfrm>
              <a:off x="8148240" y="3178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948a54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2340000" y="-24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46a"/>
                </a:solidFill>
                <a:latin typeface="Calibri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Quality assurance of the semantic resource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322200" indent="-322200">
              <a:spcBef>
                <a:spcPts val="700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Provenance Everywhere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322200" indent="-322200">
              <a:spcBef>
                <a:spcPts val="700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Validation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2" marL="698400" indent="-322200">
              <a:spcBef>
                <a:spcPts val="60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ChemSpider Validation and Standardization Platform (CVSP) for flagging chemical representation issues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322200" indent="-322200">
              <a:spcBef>
                <a:spcPts val="700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46a"/>
                </a:solidFill>
                <a:latin typeface="Calibri"/>
              </a:rPr>
              <a:t>Curation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2" marL="698400" indent="-322200">
              <a:spcBef>
                <a:spcPts val="60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High quality chemical names and synonyms. 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2" marL="698400" indent="-322200">
              <a:spcBef>
                <a:spcPts val="60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Curation interfaces for terminologies (concept wiki)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marL="374400" indent="-37440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46a"/>
                </a:solidFill>
                <a:latin typeface="Calibri"/>
              </a:rPr>
              <a:t>Report data quality issues to data providers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2" marL="698400" indent="-322200">
              <a:spcBef>
                <a:spcPts val="60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66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1011-739C-4792-95B3-B1A6C22370B7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Semantic interoperability issue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446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46a"/>
                </a:solidFill>
                <a:latin typeface="Calibri"/>
              </a:rPr>
              <a:t>Do not underestimate infrastructure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446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46a"/>
                </a:solidFill>
                <a:latin typeface="Calibri"/>
              </a:rPr>
              <a:t>APIs are important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446a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Allows for tuning of sparql queries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446a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Makes it easy for developers 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446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46a"/>
                </a:solidFill>
                <a:latin typeface="Calibri"/>
              </a:rPr>
              <a:t>Ontologies- Requirements vs. Recommendation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446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46a"/>
                </a:solidFill>
                <a:latin typeface="Calibri"/>
              </a:rPr>
              <a:t>Modeling is hard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446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70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CC42-8238-4F5D-8E19-DAE4956CF9D1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Open PHACTS Information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openphacts.org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mu@openphacts.org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46a"/>
                </a:solidFill>
                <a:latin typeface="Calibri"/>
              </a:rPr>
              <a:t>@Open_PHACTS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46a"/>
                </a:solidFill>
                <a:latin typeface="Calibri"/>
              </a:rPr>
              <a:t>Publications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446a"/>
                </a:solidFill>
                <a:latin typeface="Calibri"/>
              </a:rPr>
              <a:t>Overview paper: Williams, A.J., Harland, L., Groth, P., Pettifer, S., Chichester, C., Willighagen, E.L., Evelo, C.T., Blomberg, N., Ecker, G., Goble, C., Mons, B.: Open PHACTS: Semantic interoperability for drug discovery. Drug Discovery Today. 17, 1188–1198 (2012).</a:t>
            </a:r>
            <a:endParaRPr b="0" lang="en-US" sz="16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446a"/>
                </a:solidFill>
                <a:latin typeface="Calibri"/>
              </a:rPr>
              <a:t>Technical approach: Gray, A.J.G., Groth, P., Loizou, A., et al.: Applying linked data approaches to pharmacology: Architectural decisions and implementation. Semantic Web. (2012).</a:t>
            </a:r>
            <a:endParaRPr b="0" lang="en-US" sz="16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74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9D46-E062-45B3-898E-9533BDE7AB77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284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46a"/>
                </a:solidFill>
                <a:latin typeface="Calibri"/>
              </a:rPr>
              <a:t>Open PHACTS objective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97" name="Espace réservé du pied de page 6"/>
          <p:cNvSpPr/>
          <p:nvPr/>
        </p:nvSpPr>
        <p:spPr>
          <a:xfrm>
            <a:off x="3156120" y="598788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7521480" y="5987880"/>
            <a:ext cx="11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9C9F-9463-4920-A474-D183983C1C47}" type="slidenum">
              <a:rPr b="0" lang="en-US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1"/>
          <a:stretch/>
        </p:blipFill>
        <p:spPr>
          <a:xfrm>
            <a:off x="2556000" y="826920"/>
            <a:ext cx="4149720" cy="23860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"/>
          <p:cNvPicPr/>
          <p:nvPr/>
        </p:nvPicPr>
        <p:blipFill>
          <a:blip r:embed="rId2"/>
          <a:stretch/>
        </p:blipFill>
        <p:spPr>
          <a:xfrm>
            <a:off x="395280" y="3500280"/>
            <a:ext cx="2863800" cy="238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01" name="Picture 9" descr=""/>
          <p:cNvPicPr/>
          <p:nvPr/>
        </p:nvPicPr>
        <p:blipFill>
          <a:blip r:embed="rId3"/>
          <a:stretch/>
        </p:blipFill>
        <p:spPr>
          <a:xfrm>
            <a:off x="5219640" y="3429000"/>
            <a:ext cx="3443400" cy="2498760"/>
          </a:xfrm>
          <a:prstGeom prst="rect">
            <a:avLst/>
          </a:prstGeom>
          <a:ln w="0">
            <a:noFill/>
          </a:ln>
        </p:spPr>
      </p:pic>
      <p:grpSp>
        <p:nvGrpSpPr>
          <p:cNvPr id="202" name="Rounded Rectangle 10"/>
          <p:cNvGrpSpPr/>
          <p:nvPr/>
        </p:nvGrpSpPr>
        <p:grpSpPr>
          <a:xfrm>
            <a:off x="1663560" y="938160"/>
            <a:ext cx="1659240" cy="731880"/>
            <a:chOff x="1663560" y="938160"/>
            <a:chExt cx="1659240" cy="731880"/>
          </a:xfrm>
        </p:grpSpPr>
        <p:pic>
          <p:nvPicPr>
            <p:cNvPr id="203" name="Rounded Rectangle 10" descr=""/>
            <p:cNvPicPr/>
            <p:nvPr/>
          </p:nvPicPr>
          <p:blipFill>
            <a:blip r:embed="rId4"/>
            <a:stretch/>
          </p:blipFill>
          <p:spPr>
            <a:xfrm>
              <a:off x="1663560" y="938160"/>
              <a:ext cx="165924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1792440" y="1009800"/>
              <a:ext cx="1457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948a54"/>
                  </a:solidFill>
                  <a:latin typeface="Calibri"/>
                </a:rPr>
                <a:t>Plat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Rounded Rectangle 12"/>
          <p:cNvGrpSpPr/>
          <p:nvPr/>
        </p:nvGrpSpPr>
        <p:grpSpPr>
          <a:xfrm>
            <a:off x="5194440" y="5187960"/>
            <a:ext cx="1657080" cy="731880"/>
            <a:chOff x="5194440" y="5187960"/>
            <a:chExt cx="1657080" cy="731880"/>
          </a:xfrm>
        </p:grpSpPr>
        <p:pic>
          <p:nvPicPr>
            <p:cNvPr id="206" name="Rounded Rectangle 12" descr=""/>
            <p:cNvPicPr/>
            <p:nvPr/>
          </p:nvPicPr>
          <p:blipFill>
            <a:blip r:embed="rId5"/>
            <a:stretch/>
          </p:blipFill>
          <p:spPr>
            <a:xfrm>
              <a:off x="5194440" y="5187960"/>
              <a:ext cx="165708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5321160" y="5257800"/>
              <a:ext cx="1455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948a54"/>
                  </a:solidFill>
                  <a:latin typeface="Calibri"/>
                </a:rPr>
                <a:t>Standar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8" name="Picture 13" descr=""/>
          <p:cNvPicPr/>
          <p:nvPr/>
        </p:nvPicPr>
        <p:blipFill>
          <a:blip r:embed="rId6"/>
          <a:stretch/>
        </p:blipFill>
        <p:spPr>
          <a:xfrm>
            <a:off x="1403280" y="3252960"/>
            <a:ext cx="2676600" cy="2479680"/>
          </a:xfrm>
          <a:prstGeom prst="rect">
            <a:avLst/>
          </a:prstGeom>
          <a:ln w="0">
            <a:noFill/>
          </a:ln>
        </p:spPr>
      </p:pic>
      <p:grpSp>
        <p:nvGrpSpPr>
          <p:cNvPr id="209" name="Rounded Rectangle 14"/>
          <p:cNvGrpSpPr/>
          <p:nvPr/>
        </p:nvGrpSpPr>
        <p:grpSpPr>
          <a:xfrm>
            <a:off x="1390680" y="3591000"/>
            <a:ext cx="1650960" cy="731880"/>
            <a:chOff x="1390680" y="3591000"/>
            <a:chExt cx="1650960" cy="731880"/>
          </a:xfrm>
        </p:grpSpPr>
        <p:pic>
          <p:nvPicPr>
            <p:cNvPr id="210" name="Rounded Rectangle 14" descr=""/>
            <p:cNvPicPr/>
            <p:nvPr/>
          </p:nvPicPr>
          <p:blipFill>
            <a:blip r:embed="rId7"/>
            <a:stretch/>
          </p:blipFill>
          <p:spPr>
            <a:xfrm>
              <a:off x="1390680" y="3591000"/>
              <a:ext cx="165096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514520" y="3662280"/>
              <a:ext cx="14572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948a54"/>
                  </a:solidFill>
                  <a:latin typeface="Calibri"/>
                </a:rPr>
                <a:t>Ap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Rounded Rectangle 15"/>
          <p:cNvGrpSpPr/>
          <p:nvPr/>
        </p:nvGrpSpPr>
        <p:grpSpPr>
          <a:xfrm>
            <a:off x="384120" y="5248440"/>
            <a:ext cx="1657440" cy="738000"/>
            <a:chOff x="384120" y="5248440"/>
            <a:chExt cx="1657440" cy="738000"/>
          </a:xfrm>
        </p:grpSpPr>
        <p:pic>
          <p:nvPicPr>
            <p:cNvPr id="213" name="Rounded Rectangle 15" descr=""/>
            <p:cNvPicPr/>
            <p:nvPr/>
          </p:nvPicPr>
          <p:blipFill>
            <a:blip r:embed="rId8"/>
            <a:stretch/>
          </p:blipFill>
          <p:spPr>
            <a:xfrm>
              <a:off x="384120" y="5248440"/>
              <a:ext cx="165744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2640" y="5322960"/>
              <a:ext cx="14572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948a54"/>
                  </a:solidFill>
                  <a:latin typeface="Calibri"/>
                </a:rPr>
                <a:t>AP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3200-424D-475E-8000-106B31735723}" type="slidenum">
              <a:rPr b="0" lang="en-US" sz="1200" spc="-1" strike="noStrike">
                <a:solidFill>
                  <a:srgbClr val="00446a"/>
                </a:solidFill>
                <a:latin typeface="Arial"/>
                <a:ea typeface="Osak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46a"/>
                </a:solidFill>
                <a:latin typeface="Calibri"/>
              </a:rPr>
              <a:t>Partner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17" name="Espace réservé du pied de page 3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4897440" y="2776680"/>
            <a:ext cx="1143000" cy="3204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3" descr=""/>
          <p:cNvPicPr/>
          <p:nvPr/>
        </p:nvPicPr>
        <p:blipFill>
          <a:blip r:embed="rId2"/>
          <a:stretch/>
        </p:blipFill>
        <p:spPr>
          <a:xfrm>
            <a:off x="7777080" y="1768320"/>
            <a:ext cx="1252800" cy="3682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2" descr=""/>
          <p:cNvPicPr/>
          <p:nvPr/>
        </p:nvPicPr>
        <p:blipFill>
          <a:blip r:embed="rId3"/>
          <a:srcRect l="0" t="0" r="8338" b="0"/>
          <a:stretch/>
        </p:blipFill>
        <p:spPr>
          <a:xfrm>
            <a:off x="3097080" y="1839960"/>
            <a:ext cx="1386000" cy="4446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1" descr=""/>
          <p:cNvPicPr/>
          <p:nvPr/>
        </p:nvPicPr>
        <p:blipFill>
          <a:blip r:embed="rId4"/>
          <a:stretch/>
        </p:blipFill>
        <p:spPr>
          <a:xfrm>
            <a:off x="360360" y="1878120"/>
            <a:ext cx="1584360" cy="466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8" descr=""/>
          <p:cNvPicPr/>
          <p:nvPr/>
        </p:nvPicPr>
        <p:blipFill>
          <a:blip r:embed="rId5"/>
          <a:stretch/>
        </p:blipFill>
        <p:spPr>
          <a:xfrm>
            <a:off x="6410160" y="2776680"/>
            <a:ext cx="1511640" cy="4442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7" descr=""/>
          <p:cNvPicPr/>
          <p:nvPr/>
        </p:nvPicPr>
        <p:blipFill>
          <a:blip r:embed="rId6"/>
          <a:stretch/>
        </p:blipFill>
        <p:spPr>
          <a:xfrm>
            <a:off x="4826160" y="2200320"/>
            <a:ext cx="1711080" cy="503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5" descr=""/>
          <p:cNvPicPr/>
          <p:nvPr/>
        </p:nvPicPr>
        <p:blipFill>
          <a:blip r:embed="rId7"/>
          <a:srcRect l="0" t="0" r="35018" b="0"/>
          <a:stretch/>
        </p:blipFill>
        <p:spPr>
          <a:xfrm>
            <a:off x="7837560" y="3208320"/>
            <a:ext cx="888840" cy="4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4" descr=""/>
          <p:cNvPicPr/>
          <p:nvPr/>
        </p:nvPicPr>
        <p:blipFill>
          <a:blip r:embed="rId8"/>
          <a:srcRect l="0" t="0" r="13340" b="0"/>
          <a:stretch/>
        </p:blipFill>
        <p:spPr>
          <a:xfrm>
            <a:off x="6491160" y="3279600"/>
            <a:ext cx="1060560" cy="360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1" descr=""/>
          <p:cNvPicPr/>
          <p:nvPr/>
        </p:nvPicPr>
        <p:blipFill>
          <a:blip r:embed="rId9"/>
          <a:stretch/>
        </p:blipFill>
        <p:spPr>
          <a:xfrm>
            <a:off x="433440" y="2487600"/>
            <a:ext cx="2016000" cy="5349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" descr=""/>
          <p:cNvPicPr/>
          <p:nvPr/>
        </p:nvPicPr>
        <p:blipFill>
          <a:blip r:embed="rId10"/>
          <a:stretch/>
        </p:blipFill>
        <p:spPr>
          <a:xfrm>
            <a:off x="433440" y="3137040"/>
            <a:ext cx="1466640" cy="431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"/>
          <p:cNvPicPr/>
          <p:nvPr/>
        </p:nvPicPr>
        <p:blipFill>
          <a:blip r:embed="rId11"/>
          <a:stretch/>
        </p:blipFill>
        <p:spPr>
          <a:xfrm>
            <a:off x="6337440" y="1839960"/>
            <a:ext cx="1187280" cy="3492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6" descr=""/>
          <p:cNvPicPr/>
          <p:nvPr/>
        </p:nvPicPr>
        <p:blipFill>
          <a:blip r:embed="rId12"/>
          <a:stretch/>
        </p:blipFill>
        <p:spPr>
          <a:xfrm>
            <a:off x="7634160" y="2200320"/>
            <a:ext cx="1227240" cy="360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3" descr=""/>
          <p:cNvPicPr/>
          <p:nvPr/>
        </p:nvPicPr>
        <p:blipFill>
          <a:blip r:embed="rId13"/>
          <a:stretch/>
        </p:blipFill>
        <p:spPr>
          <a:xfrm>
            <a:off x="4897440" y="3208320"/>
            <a:ext cx="1220760" cy="360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5" descr=""/>
          <p:cNvPicPr/>
          <p:nvPr/>
        </p:nvPicPr>
        <p:blipFill>
          <a:blip r:embed="rId14"/>
          <a:stretch/>
        </p:blipFill>
        <p:spPr>
          <a:xfrm>
            <a:off x="3097080" y="2703600"/>
            <a:ext cx="1576440" cy="4633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6" descr=""/>
          <p:cNvPicPr/>
          <p:nvPr/>
        </p:nvPicPr>
        <p:blipFill>
          <a:blip r:embed="rId15"/>
          <a:stretch/>
        </p:blipFill>
        <p:spPr>
          <a:xfrm>
            <a:off x="3292560" y="3279600"/>
            <a:ext cx="1079280" cy="3193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8" descr=""/>
          <p:cNvPicPr/>
          <p:nvPr/>
        </p:nvPicPr>
        <p:blipFill>
          <a:blip r:embed="rId16"/>
          <a:stretch/>
        </p:blipFill>
        <p:spPr>
          <a:xfrm>
            <a:off x="4826160" y="1839960"/>
            <a:ext cx="1150920" cy="339840"/>
          </a:xfrm>
          <a:prstGeom prst="rect">
            <a:avLst/>
          </a:prstGeom>
          <a:ln w="0">
            <a:noFill/>
          </a:ln>
        </p:spPr>
      </p:pic>
      <p:pic>
        <p:nvPicPr>
          <p:cNvPr id="234" name="Grafik 26" descr="C:\Users\Anika Robl\AppData\Local\Microsoft\Windows\Temporary Internet Files\Content.Outlook\PFI2JZPG\INGLES_POSITIVO.jpg"/>
          <p:cNvPicPr/>
          <p:nvPr/>
        </p:nvPicPr>
        <p:blipFill>
          <a:blip r:embed="rId17"/>
          <a:stretch/>
        </p:blipFill>
        <p:spPr>
          <a:xfrm>
            <a:off x="6337440" y="2344680"/>
            <a:ext cx="834840" cy="2984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7" descr=""/>
          <p:cNvPicPr/>
          <p:nvPr/>
        </p:nvPicPr>
        <p:blipFill>
          <a:blip r:embed="rId18"/>
          <a:stretch/>
        </p:blipFill>
        <p:spPr>
          <a:xfrm>
            <a:off x="1297080" y="1913040"/>
            <a:ext cx="1584360" cy="465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4" descr=""/>
          <p:cNvPicPr/>
          <p:nvPr/>
        </p:nvPicPr>
        <p:blipFill>
          <a:blip r:embed="rId19"/>
          <a:stretch/>
        </p:blipFill>
        <p:spPr>
          <a:xfrm>
            <a:off x="1368360" y="2560680"/>
            <a:ext cx="1470240" cy="431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0" descr=""/>
          <p:cNvPicPr/>
          <p:nvPr/>
        </p:nvPicPr>
        <p:blipFill>
          <a:blip r:embed="rId20"/>
          <a:stretch/>
        </p:blipFill>
        <p:spPr>
          <a:xfrm>
            <a:off x="3168720" y="2344680"/>
            <a:ext cx="1128600" cy="3333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0" descr=""/>
          <p:cNvPicPr/>
          <p:nvPr/>
        </p:nvPicPr>
        <p:blipFill>
          <a:blip r:embed="rId21"/>
          <a:stretch/>
        </p:blipFill>
        <p:spPr>
          <a:xfrm>
            <a:off x="1441440" y="3137040"/>
            <a:ext cx="1471680" cy="4316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6" descr=""/>
          <p:cNvPicPr/>
          <p:nvPr/>
        </p:nvPicPr>
        <p:blipFill>
          <a:blip r:embed="rId22"/>
          <a:stretch/>
        </p:blipFill>
        <p:spPr>
          <a:xfrm>
            <a:off x="7464600" y="2674800"/>
            <a:ext cx="1709640" cy="505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NBIC"/>
          <p:cNvPicPr/>
          <p:nvPr/>
        </p:nvPicPr>
        <p:blipFill>
          <a:blip r:embed="rId23"/>
          <a:stretch/>
        </p:blipFill>
        <p:spPr>
          <a:xfrm>
            <a:off x="4968720" y="3960720"/>
            <a:ext cx="1086120" cy="4572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SIB"/>
          <p:cNvPicPr/>
          <p:nvPr/>
        </p:nvPicPr>
        <p:blipFill>
          <a:blip r:embed="rId24"/>
          <a:stretch/>
        </p:blipFill>
        <p:spPr>
          <a:xfrm>
            <a:off x="7756560" y="3933720"/>
            <a:ext cx="1028520" cy="5558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ConnDiscovery"/>
          <p:cNvPicPr/>
          <p:nvPr/>
        </p:nvPicPr>
        <p:blipFill>
          <a:blip r:embed="rId25"/>
          <a:stretch/>
        </p:blipFill>
        <p:spPr>
          <a:xfrm>
            <a:off x="3168720" y="4017960"/>
            <a:ext cx="1638360" cy="399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2" descr="EBI"/>
          <p:cNvPicPr/>
          <p:nvPr/>
        </p:nvPicPr>
        <p:blipFill>
          <a:blip r:embed="rId26"/>
          <a:stretch/>
        </p:blipFill>
        <p:spPr>
          <a:xfrm>
            <a:off x="1467000" y="4041720"/>
            <a:ext cx="1414440" cy="4478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4" descr="janssen"/>
          <p:cNvPicPr/>
          <p:nvPr/>
        </p:nvPicPr>
        <p:blipFill>
          <a:blip r:embed="rId27"/>
          <a:stretch/>
        </p:blipFill>
        <p:spPr>
          <a:xfrm>
            <a:off x="289080" y="3946680"/>
            <a:ext cx="1064880" cy="6141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5" descr="oplogo_std_200x80.png"/>
          <p:cNvPicPr/>
          <p:nvPr/>
        </p:nvPicPr>
        <p:blipFill>
          <a:blip r:embed="rId28"/>
          <a:srcRect l="0" t="0" r="0" b="14179"/>
          <a:stretch/>
        </p:blipFill>
        <p:spPr>
          <a:xfrm>
            <a:off x="6286680" y="3981600"/>
            <a:ext cx="1269720" cy="43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B92F-4D18-4CC1-A566-2FC77EA46E9C}" type="slidenum">
              <a:rPr b="0" lang="en-US" sz="1200" spc="-1" strike="noStrike">
                <a:solidFill>
                  <a:srgbClr val="00446a"/>
                </a:solidFill>
                <a:latin typeface="Arial"/>
                <a:ea typeface="Osak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46a"/>
                </a:solidFill>
                <a:latin typeface="Calibri"/>
              </a:rPr>
              <a:t>Associate Partner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48" name="Espace réservé du pied de page 3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33" descr=""/>
          <p:cNvPicPr/>
          <p:nvPr/>
        </p:nvPicPr>
        <p:blipFill>
          <a:blip r:embed="rId1"/>
          <a:stretch/>
        </p:blipFill>
        <p:spPr>
          <a:xfrm>
            <a:off x="7305840" y="2232000"/>
            <a:ext cx="1193760" cy="8668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"/>
          <p:cNvPicPr/>
          <p:nvPr/>
        </p:nvPicPr>
        <p:blipFill>
          <a:blip r:embed="rId2"/>
          <a:stretch/>
        </p:blipFill>
        <p:spPr>
          <a:xfrm>
            <a:off x="5638680" y="4343400"/>
            <a:ext cx="1573200" cy="4906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"/>
          <p:cNvPicPr/>
          <p:nvPr/>
        </p:nvPicPr>
        <p:blipFill>
          <a:blip r:embed="rId3"/>
          <a:stretch/>
        </p:blipFill>
        <p:spPr>
          <a:xfrm>
            <a:off x="5791320" y="3036960"/>
            <a:ext cx="1293840" cy="3808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9" descr=""/>
          <p:cNvPicPr/>
          <p:nvPr/>
        </p:nvPicPr>
        <p:blipFill>
          <a:blip r:embed="rId4"/>
          <a:stretch/>
        </p:blipFill>
        <p:spPr>
          <a:xfrm>
            <a:off x="7162920" y="3200400"/>
            <a:ext cx="1647720" cy="693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0" descr=""/>
          <p:cNvPicPr/>
          <p:nvPr/>
        </p:nvPicPr>
        <p:blipFill>
          <a:blip r:embed="rId5"/>
          <a:stretch/>
        </p:blipFill>
        <p:spPr>
          <a:xfrm>
            <a:off x="380880" y="2057400"/>
            <a:ext cx="1629000" cy="4586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1" descr=""/>
          <p:cNvPicPr/>
          <p:nvPr/>
        </p:nvPicPr>
        <p:blipFill>
          <a:blip r:embed="rId6"/>
          <a:stretch/>
        </p:blipFill>
        <p:spPr>
          <a:xfrm>
            <a:off x="7467480" y="3962520"/>
            <a:ext cx="1092240" cy="10922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2" descr=""/>
          <p:cNvPicPr/>
          <p:nvPr/>
        </p:nvPicPr>
        <p:blipFill>
          <a:blip r:embed="rId7"/>
          <a:stretch/>
        </p:blipFill>
        <p:spPr>
          <a:xfrm>
            <a:off x="3564000" y="4149720"/>
            <a:ext cx="1101600" cy="693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3" descr=""/>
          <p:cNvPicPr/>
          <p:nvPr/>
        </p:nvPicPr>
        <p:blipFill>
          <a:blip r:embed="rId8"/>
          <a:stretch/>
        </p:blipFill>
        <p:spPr>
          <a:xfrm>
            <a:off x="457200" y="4343400"/>
            <a:ext cx="1852560" cy="620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"/>
          <p:cNvPicPr/>
          <p:nvPr/>
        </p:nvPicPr>
        <p:blipFill>
          <a:blip r:embed="rId9"/>
          <a:stretch/>
        </p:blipFill>
        <p:spPr>
          <a:xfrm>
            <a:off x="2700360" y="3933720"/>
            <a:ext cx="639720" cy="12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5" descr=""/>
          <p:cNvPicPr/>
          <p:nvPr/>
        </p:nvPicPr>
        <p:blipFill>
          <a:blip r:embed="rId10"/>
          <a:stretch/>
        </p:blipFill>
        <p:spPr>
          <a:xfrm>
            <a:off x="3419640" y="5445000"/>
            <a:ext cx="2046240" cy="64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7" descr=""/>
          <p:cNvPicPr/>
          <p:nvPr/>
        </p:nvPicPr>
        <p:blipFill>
          <a:blip r:embed="rId11"/>
          <a:stretch/>
        </p:blipFill>
        <p:spPr>
          <a:xfrm>
            <a:off x="228600" y="3657600"/>
            <a:ext cx="2119320" cy="693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8" descr=""/>
          <p:cNvPicPr/>
          <p:nvPr/>
        </p:nvPicPr>
        <p:blipFill>
          <a:blip r:embed="rId12"/>
          <a:stretch/>
        </p:blipFill>
        <p:spPr>
          <a:xfrm>
            <a:off x="2700360" y="2565360"/>
            <a:ext cx="1560600" cy="5000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9" descr=""/>
          <p:cNvPicPr/>
          <p:nvPr/>
        </p:nvPicPr>
        <p:blipFill>
          <a:blip r:embed="rId13"/>
          <a:stretch/>
        </p:blipFill>
        <p:spPr>
          <a:xfrm>
            <a:off x="457200" y="1371600"/>
            <a:ext cx="2065320" cy="4446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0" descr=""/>
          <p:cNvPicPr/>
          <p:nvPr/>
        </p:nvPicPr>
        <p:blipFill>
          <a:blip r:embed="rId14"/>
          <a:stretch/>
        </p:blipFill>
        <p:spPr>
          <a:xfrm>
            <a:off x="2195640" y="5300640"/>
            <a:ext cx="820440" cy="10508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1" descr=""/>
          <p:cNvPicPr/>
          <p:nvPr/>
        </p:nvPicPr>
        <p:blipFill>
          <a:blip r:embed="rId15"/>
          <a:stretch/>
        </p:blipFill>
        <p:spPr>
          <a:xfrm>
            <a:off x="6934320" y="1371600"/>
            <a:ext cx="1850760" cy="693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2" descr=""/>
          <p:cNvPicPr/>
          <p:nvPr/>
        </p:nvPicPr>
        <p:blipFill>
          <a:blip r:embed="rId16"/>
          <a:stretch/>
        </p:blipFill>
        <p:spPr>
          <a:xfrm>
            <a:off x="4724280" y="4648320"/>
            <a:ext cx="684360" cy="693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3" descr=""/>
          <p:cNvPicPr/>
          <p:nvPr/>
        </p:nvPicPr>
        <p:blipFill>
          <a:blip r:embed="rId17"/>
          <a:stretch/>
        </p:blipFill>
        <p:spPr>
          <a:xfrm>
            <a:off x="6300720" y="5373720"/>
            <a:ext cx="2306880" cy="8143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4" descr=""/>
          <p:cNvPicPr/>
          <p:nvPr/>
        </p:nvPicPr>
        <p:blipFill>
          <a:blip r:embed="rId18"/>
          <a:stretch/>
        </p:blipFill>
        <p:spPr>
          <a:xfrm>
            <a:off x="2987640" y="1628640"/>
            <a:ext cx="1986120" cy="5781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5" descr="\\rsc\userdata\TGH\Home\KiddR\MyDocuments\OPS Publicity\Certara.png"/>
          <p:cNvPicPr/>
          <p:nvPr/>
        </p:nvPicPr>
        <p:blipFill>
          <a:blip r:embed="rId19"/>
          <a:stretch/>
        </p:blipFill>
        <p:spPr>
          <a:xfrm>
            <a:off x="5334120" y="3657600"/>
            <a:ext cx="1555560" cy="4492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6" descr="\\rsc\userdata\TGH\Home\KiddR\MyDocuments\OPS Publicity\EagleGenomics.png"/>
          <p:cNvPicPr/>
          <p:nvPr/>
        </p:nvPicPr>
        <p:blipFill>
          <a:blip r:embed="rId20"/>
          <a:stretch/>
        </p:blipFill>
        <p:spPr>
          <a:xfrm>
            <a:off x="5715000" y="1295280"/>
            <a:ext cx="901800" cy="9874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7" descr="\\rsc\userdata\TGH\Home\KiddR\MyDocuments\OPS Publicity\Erasmus.png"/>
          <p:cNvPicPr/>
          <p:nvPr/>
        </p:nvPicPr>
        <p:blipFill>
          <a:blip r:embed="rId21"/>
          <a:stretch/>
        </p:blipFill>
        <p:spPr>
          <a:xfrm>
            <a:off x="457200" y="5562720"/>
            <a:ext cx="1193760" cy="4492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8" descr="\\rsc\userdata\TGH\Home\KiddR\MyDocuments\OPS Publicity\MGH.png"/>
          <p:cNvPicPr/>
          <p:nvPr/>
        </p:nvPicPr>
        <p:blipFill>
          <a:blip r:embed="rId22"/>
          <a:stretch/>
        </p:blipFill>
        <p:spPr>
          <a:xfrm>
            <a:off x="4952880" y="3119400"/>
            <a:ext cx="513000" cy="6015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"/>
          <p:cNvPicPr/>
          <p:nvPr/>
        </p:nvPicPr>
        <p:blipFill>
          <a:blip r:embed="rId23"/>
          <a:stretch/>
        </p:blipFill>
        <p:spPr>
          <a:xfrm>
            <a:off x="5105520" y="2438280"/>
            <a:ext cx="1388880" cy="5191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\\rsc\userdata\TGH\Home\KiddR\MyDocuments\OPS Publicity\hyve.jpg"/>
          <p:cNvPicPr/>
          <p:nvPr/>
        </p:nvPicPr>
        <p:blipFill>
          <a:blip r:embed="rId24"/>
          <a:stretch/>
        </p:blipFill>
        <p:spPr>
          <a:xfrm>
            <a:off x="2556000" y="3462480"/>
            <a:ext cx="1616040" cy="3445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8" descr=""/>
          <p:cNvPicPr/>
          <p:nvPr/>
        </p:nvPicPr>
        <p:blipFill>
          <a:blip r:embed="rId25"/>
          <a:stretch/>
        </p:blipFill>
        <p:spPr>
          <a:xfrm>
            <a:off x="457200" y="2743200"/>
            <a:ext cx="1173240" cy="863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"/>
          <p:cNvPicPr/>
          <p:nvPr/>
        </p:nvPicPr>
        <p:blipFill>
          <a:blip r:embed="rId26"/>
          <a:stretch/>
        </p:blipFill>
        <p:spPr>
          <a:xfrm>
            <a:off x="7010280" y="4800600"/>
            <a:ext cx="1893960" cy="693720"/>
          </a:xfrm>
          <a:prstGeom prst="rect">
            <a:avLst/>
          </a:prstGeom>
          <a:ln w="0">
            <a:noFill/>
          </a:ln>
        </p:spPr>
      </p:pic>
      <p:sp>
        <p:nvSpPr>
          <p:cNvPr id="275" name="TextBox 60"/>
          <p:cNvSpPr/>
          <p:nvPr/>
        </p:nvSpPr>
        <p:spPr>
          <a:xfrm>
            <a:off x="4788000" y="5013360"/>
            <a:ext cx="98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uenom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Espace réservé du numéro de diapositive 15"/>
          <p:cNvSpPr/>
          <p:nvPr/>
        </p:nvSpPr>
        <p:spPr>
          <a:xfrm>
            <a:off x="7489800" y="578016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3CC0-60E3-491B-9BB5-6CB29D830817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Espace réservé du pied de page 16"/>
          <p:cNvSpPr/>
          <p:nvPr/>
        </p:nvSpPr>
        <p:spPr>
          <a:xfrm>
            <a:off x="3124080" y="57801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ounded Rectangle 6"/>
          <p:cNvSpPr/>
          <p:nvPr/>
        </p:nvSpPr>
        <p:spPr>
          <a:xfrm>
            <a:off x="108000" y="3068640"/>
            <a:ext cx="1481040" cy="601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ounded Rectangle 7"/>
          <p:cNvSpPr/>
          <p:nvPr/>
        </p:nvSpPr>
        <p:spPr>
          <a:xfrm>
            <a:off x="1762200" y="3027240"/>
            <a:ext cx="1481040" cy="60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ug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ounded Rectangle 8"/>
          <p:cNvSpPr/>
          <p:nvPr/>
        </p:nvSpPr>
        <p:spPr>
          <a:xfrm>
            <a:off x="3492360" y="3068640"/>
            <a:ext cx="1479600" cy="601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 Ont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ounded Rectangle 9"/>
          <p:cNvSpPr/>
          <p:nvPr/>
        </p:nvSpPr>
        <p:spPr>
          <a:xfrm>
            <a:off x="5194440" y="3046320"/>
            <a:ext cx="1722240" cy="60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kipath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ounded Rectangle 10"/>
          <p:cNvSpPr/>
          <p:nvPr/>
        </p:nvSpPr>
        <p:spPr>
          <a:xfrm>
            <a:off x="2592360" y="3914640"/>
            <a:ext cx="1481040" cy="60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Pr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ounded Rectangle 11"/>
          <p:cNvSpPr/>
          <p:nvPr/>
        </p:nvSpPr>
        <p:spPr>
          <a:xfrm>
            <a:off x="3608280" y="4762440"/>
            <a:ext cx="1629000" cy="6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emSp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ounded Rectangle 12"/>
          <p:cNvSpPr/>
          <p:nvPr/>
        </p:nvSpPr>
        <p:spPr>
          <a:xfrm>
            <a:off x="4462560" y="3914640"/>
            <a:ext cx="1628640" cy="60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M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ounded Rectangle 13"/>
          <p:cNvSpPr/>
          <p:nvPr/>
        </p:nvSpPr>
        <p:spPr>
          <a:xfrm>
            <a:off x="1611360" y="4762440"/>
            <a:ext cx="1628640" cy="6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ncept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ounded Rectangle 14"/>
          <p:cNvSpPr/>
          <p:nvPr/>
        </p:nvSpPr>
        <p:spPr>
          <a:xfrm>
            <a:off x="409680" y="3914640"/>
            <a:ext cx="1628640" cy="60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E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ounded Rectangle 15"/>
          <p:cNvSpPr/>
          <p:nvPr/>
        </p:nvSpPr>
        <p:spPr>
          <a:xfrm>
            <a:off x="5632560" y="4772160"/>
            <a:ext cx="1628640" cy="601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ialTr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ounded Rectangle 17"/>
          <p:cNvSpPr/>
          <p:nvPr/>
        </p:nvSpPr>
        <p:spPr>
          <a:xfrm>
            <a:off x="6480000" y="3924360"/>
            <a:ext cx="1629000" cy="6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VK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ounded Rectangle 18"/>
          <p:cNvSpPr/>
          <p:nvPr/>
        </p:nvSpPr>
        <p:spPr>
          <a:xfrm>
            <a:off x="7129440" y="3059280"/>
            <a:ext cx="1627200" cy="601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ounded Rectangle 19"/>
          <p:cNvSpPr/>
          <p:nvPr/>
        </p:nvSpPr>
        <p:spPr>
          <a:xfrm>
            <a:off x="7480440" y="4772160"/>
            <a:ext cx="1628640" cy="601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Object 50"/>
          <p:cNvGraphicFramePr/>
          <p:nvPr/>
        </p:nvGraphicFramePr>
        <p:xfrm>
          <a:off x="4859280" y="1484280"/>
          <a:ext cx="515880" cy="5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1484280"/>
                    <a:ext cx="51588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48"/>
          <p:cNvGraphicFramePr/>
          <p:nvPr/>
        </p:nvGraphicFramePr>
        <p:xfrm>
          <a:off x="5219640" y="2349360"/>
          <a:ext cx="507960" cy="50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4" name="Object 4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2349360"/>
                    <a:ext cx="50796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5" name="Oval Callout 22"/>
          <p:cNvGrpSpPr/>
          <p:nvPr/>
        </p:nvGrpSpPr>
        <p:grpSpPr>
          <a:xfrm>
            <a:off x="5730840" y="1163520"/>
            <a:ext cx="3468600" cy="1841760"/>
            <a:chOff x="5730840" y="1163520"/>
            <a:chExt cx="3468600" cy="1841760"/>
          </a:xfrm>
        </p:grpSpPr>
        <p:pic>
          <p:nvPicPr>
            <p:cNvPr id="296" name="Oval Callout 22" descr=""/>
            <p:cNvPicPr/>
            <p:nvPr/>
          </p:nvPicPr>
          <p:blipFill>
            <a:blip r:embed="rId5"/>
            <a:stretch/>
          </p:blipFill>
          <p:spPr>
            <a:xfrm>
              <a:off x="5730840" y="1163520"/>
              <a:ext cx="3468600" cy="18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6469200" y="1449360"/>
              <a:ext cx="2216160" cy="12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0253f"/>
                  </a:solidFill>
                  <a:latin typeface="Comic Sans MS"/>
                </a:rPr>
                <a:t>“</a:t>
              </a:r>
              <a:r>
                <a:rPr b="0" lang="en-US" sz="1400" spc="-1" strike="noStrike">
                  <a:solidFill>
                    <a:srgbClr val="10253f"/>
                  </a:solidFill>
                  <a:latin typeface="Comic Sans MS"/>
                </a:rPr>
                <a:t>Find me compounds that inhibit targets in  NFkB pathway assayed in only functional assays with a potency &lt;1 </a:t>
              </a:r>
              <a:r>
                <a:rPr b="0" lang="el-GR" sz="1400" spc="-1" strike="noStrike">
                  <a:solidFill>
                    <a:srgbClr val="10253f"/>
                  </a:solidFill>
                  <a:latin typeface="Comic Sans MS"/>
                </a:rPr>
                <a:t>μ</a:t>
              </a:r>
              <a:r>
                <a:rPr b="0" lang="en-US" sz="1400" spc="-1" strike="noStrike">
                  <a:solidFill>
                    <a:srgbClr val="10253f"/>
                  </a:solidFill>
                  <a:latin typeface="Comic Sans MS"/>
                </a:rPr>
                <a:t>M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Oval Callout 23"/>
          <p:cNvGrpSpPr/>
          <p:nvPr/>
        </p:nvGrpSpPr>
        <p:grpSpPr>
          <a:xfrm>
            <a:off x="3578400" y="444600"/>
            <a:ext cx="2700000" cy="1658880"/>
            <a:chOff x="3578400" y="444600"/>
            <a:chExt cx="2700000" cy="1658880"/>
          </a:xfrm>
        </p:grpSpPr>
        <p:pic>
          <p:nvPicPr>
            <p:cNvPr id="299" name="Oval Callout 23" descr=""/>
            <p:cNvPicPr/>
            <p:nvPr/>
          </p:nvPicPr>
          <p:blipFill>
            <a:blip r:embed="rId6"/>
            <a:stretch/>
          </p:blipFill>
          <p:spPr>
            <a:xfrm>
              <a:off x="3578400" y="444600"/>
              <a:ext cx="2700000" cy="16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4014720" y="698400"/>
              <a:ext cx="182880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0253f"/>
                  </a:solidFill>
                  <a:latin typeface="Comic Sans MS"/>
                </a:rPr>
                <a:t>“</a:t>
              </a:r>
              <a:r>
                <a:rPr b="0" lang="en-US" sz="1400" spc="-1" strike="noStrike">
                  <a:solidFill>
                    <a:srgbClr val="10253f"/>
                  </a:solidFill>
                  <a:latin typeface="Comic Sans MS"/>
                </a:rPr>
                <a:t>Let me compare MW, logP and PSA for known  oxidoreductase inhibitors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Oval Callout 24"/>
          <p:cNvGrpSpPr/>
          <p:nvPr/>
        </p:nvGrpSpPr>
        <p:grpSpPr>
          <a:xfrm>
            <a:off x="139680" y="517680"/>
            <a:ext cx="3048120" cy="1566720"/>
            <a:chOff x="139680" y="517680"/>
            <a:chExt cx="3048120" cy="1566720"/>
          </a:xfrm>
        </p:grpSpPr>
        <p:pic>
          <p:nvPicPr>
            <p:cNvPr id="302" name="Oval Callout 24" descr=""/>
            <p:cNvPicPr/>
            <p:nvPr/>
          </p:nvPicPr>
          <p:blipFill>
            <a:blip r:embed="rId7"/>
            <a:stretch/>
          </p:blipFill>
          <p:spPr>
            <a:xfrm>
              <a:off x="139680" y="517680"/>
              <a:ext cx="3048120" cy="15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627120" y="728640"/>
              <a:ext cx="207468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0253f"/>
                  </a:solidFill>
                  <a:latin typeface="Comic Sans MS"/>
                </a:rPr>
                <a:t>“</a:t>
              </a:r>
              <a:r>
                <a:rPr b="0" lang="en-US" sz="1400" spc="-1" strike="noStrike">
                  <a:solidFill>
                    <a:srgbClr val="10253f"/>
                  </a:solidFill>
                  <a:latin typeface="Comic Sans MS"/>
                </a:rPr>
                <a:t>What is the selectivity profile of known p38 inhibitors?”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04" name="Object 4"/>
          <p:cNvGraphicFramePr/>
          <p:nvPr/>
        </p:nvGraphicFramePr>
        <p:xfrm>
          <a:off x="3132000" y="1844640"/>
          <a:ext cx="507960" cy="501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05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132000" y="1844640"/>
                    <a:ext cx="50796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Object 5"/>
          <p:cNvGraphicFramePr/>
          <p:nvPr/>
        </p:nvGraphicFramePr>
        <p:xfrm>
          <a:off x="539640" y="1989000"/>
          <a:ext cx="507960" cy="501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07" name="Object 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39640" y="1989000"/>
                    <a:ext cx="50796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111E-C069-49B5-A5DD-78B74DDD623F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5" descr="Screen Shot 2012-11-14 at 2.27.06 PM.png"/>
          <p:cNvPicPr/>
          <p:nvPr/>
        </p:nvPicPr>
        <p:blipFill>
          <a:blip r:embed="rId1"/>
          <a:stretch/>
        </p:blipFill>
        <p:spPr>
          <a:xfrm>
            <a:off x="-7920" y="480960"/>
            <a:ext cx="9144000" cy="5321520"/>
          </a:xfrm>
          <a:prstGeom prst="rect">
            <a:avLst/>
          </a:prstGeom>
          <a:ln w="0">
            <a:noFill/>
          </a:ln>
        </p:spPr>
      </p:pic>
      <p:sp>
        <p:nvSpPr>
          <p:cNvPr id="311" name="TextBox 6"/>
          <p:cNvSpPr/>
          <p:nvPr/>
        </p:nvSpPr>
        <p:spPr>
          <a:xfrm>
            <a:off x="194760" y="115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PHACTS Explo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8a54"/>
                </a:solidFill>
                <a:latin typeface="Calibri"/>
              </a:rPr>
              <a:t>PharmaTrek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</p:txBody>
      </p:sp>
      <p:pic>
        <p:nvPicPr>
          <p:cNvPr id="313" name="Picture 5" descr="Screen Shot 2012-11-14 at 3.09.55 PM.png"/>
          <p:cNvPicPr/>
          <p:nvPr/>
        </p:nvPicPr>
        <p:blipFill>
          <a:blip r:embed="rId1"/>
          <a:stretch/>
        </p:blipFill>
        <p:spPr>
          <a:xfrm>
            <a:off x="539640" y="826920"/>
            <a:ext cx="7952040" cy="462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9F4A-778A-46A7-B619-6AFD05C68553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920880" y="528480"/>
            <a:ext cx="8029440" cy="4845240"/>
          </a:xfrm>
          <a:prstGeom prst="rect">
            <a:avLst/>
          </a:prstGeom>
          <a:ln w="0">
            <a:noFill/>
          </a:ln>
        </p:spPr>
      </p:pic>
      <p:pic>
        <p:nvPicPr>
          <p:cNvPr id="317" name="Bild 2" descr="ScreenShot_CBN_Grid.tiff"/>
          <p:cNvPicPr/>
          <p:nvPr/>
        </p:nvPicPr>
        <p:blipFill>
          <a:blip r:embed="rId2"/>
          <a:stretch/>
        </p:blipFill>
        <p:spPr>
          <a:xfrm>
            <a:off x="2668680" y="1154160"/>
            <a:ext cx="4495680" cy="3211560"/>
          </a:xfrm>
          <a:prstGeom prst="rect">
            <a:avLst/>
          </a:prstGeom>
          <a:ln w="0">
            <a:noFill/>
          </a:ln>
        </p:spPr>
      </p:pic>
      <p:sp>
        <p:nvSpPr>
          <p:cNvPr id="318" name="TextBox 8"/>
          <p:cNvSpPr/>
          <p:nvPr/>
        </p:nvSpPr>
        <p:spPr>
          <a:xfrm>
            <a:off x="192960" y="260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mBioNavig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4T11:58:06Z</dcterms:created>
  <dc:creator>Geert Thienpont</dc:creator>
  <dc:description/>
  <cp:keywords>Template</cp:keywords>
  <dc:language>en-US</dc:language>
  <cp:lastModifiedBy>Sajjad Hussain</cp:lastModifiedBy>
  <dcterms:modified xsi:type="dcterms:W3CDTF">2013-01-27T18:34:18Z</dcterms:modified>
  <cp:revision>196</cp:revision>
  <dc:subject>Electronic Health Records for Clinical Research</dc:subject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A8F06BE5DF5F747A022BC8322DD419B001FEF3DC2CF7D1144A5A06A8BA1455B4F</vt:lpwstr>
  </property>
  <property fmtid="{D5CDD505-2E9C-101B-9397-08002B2CF9AE}" pid="3" name="WPNo">
    <vt:lpwstr>General (HP)</vt:lpwstr>
  </property>
  <property fmtid="{D5CDD505-2E9C-101B-9397-08002B2CF9AE}" pid="4" name="ehr4crDelNo">
    <vt:lpwstr>None</vt:lpwstr>
  </property>
  <property fmtid="{D5CDD505-2E9C-101B-9397-08002B2CF9AE}" pid="5" name="ehr4crDocType">
    <vt:lpwstr>Other</vt:lpwstr>
  </property>
  <property fmtid="{D5CDD505-2E9C-101B-9397-08002B2CF9AE}" pid="6" name="ehr4crPartner">
    <vt:lpwstr>n.a.</vt:lpwstr>
  </property>
  <property fmtid="{D5CDD505-2E9C-101B-9397-08002B2CF9AE}" pid="7" name="ehr4crTask">
    <vt:lpwstr>none</vt:lpwstr>
  </property>
</Properties>
</file>